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FF6B9E57-9D1F-48E2-9048-655B8B65AE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51440" cy="37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/>
          <p:nvPr/>
        </p:nvSpPr>
        <p:spPr>
          <a:xfrm>
            <a:off x="905040" y="749160"/>
            <a:ext cx="49370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14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196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84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196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77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7467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TTÜ 2006        T.Tammet     IT sissejuhatus loeng 11      lk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A3EEC105-C626-43F9-8410-BD6CA4A2CD4B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77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cnn.com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ibm.com/" TargetMode="External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5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3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838080" y="604800"/>
            <a:ext cx="7772400" cy="311040"/>
            <a:chOff x="838080" y="604800"/>
            <a:chExt cx="7772400" cy="311040"/>
          </a:xfrm>
        </p:grpSpPr>
        <p:sp>
          <p:nvSpPr>
            <p:cNvPr id="342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8609040" y="6048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345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349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353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357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361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365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369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373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377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 flipV="1">
            <a:off x="3657600" y="2585880"/>
            <a:ext cx="152388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24320" y="3048120"/>
            <a:ext cx="856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410080" y="2052720"/>
            <a:ext cx="687600" cy="46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871520" y="2819520"/>
            <a:ext cx="466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347640" y="3962520"/>
            <a:ext cx="3133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109760" y="3809880"/>
            <a:ext cx="6951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124080" y="3881160"/>
            <a:ext cx="15264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3505320" y="3576600"/>
            <a:ext cx="11430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4191120" y="4871520"/>
            <a:ext cx="129672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638680" y="3957120"/>
            <a:ext cx="76212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657600" y="1824120"/>
            <a:ext cx="22096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4920" y="1219320"/>
            <a:ext cx="220968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peab saatma  teksti “Ahoi, ter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(ilmselt!) masina X kasu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410080" y="2052360"/>
            <a:ext cx="381240" cy="2379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kaduma minn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838080" y="604800"/>
            <a:ext cx="7772400" cy="311040"/>
            <a:chOff x="838080" y="604800"/>
            <a:chExt cx="7772400" cy="311040"/>
          </a:xfrm>
        </p:grpSpPr>
        <p:sp>
          <p:nvSpPr>
            <p:cNvPr id="411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8609040" y="6048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414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418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422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426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430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434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438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442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446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 flipV="1">
            <a:off x="3657600" y="2585880"/>
            <a:ext cx="152388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3424320" y="3048120"/>
            <a:ext cx="856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5410080" y="2052720"/>
            <a:ext cx="687600" cy="46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4871520" y="2819520"/>
            <a:ext cx="466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3347640" y="3962520"/>
            <a:ext cx="3133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4109760" y="3809880"/>
            <a:ext cx="6951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3124080" y="3881160"/>
            <a:ext cx="15264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505320" y="3576600"/>
            <a:ext cx="11430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191120" y="4871520"/>
            <a:ext cx="129672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638680" y="3957120"/>
            <a:ext cx="76212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657600" y="1824120"/>
            <a:ext cx="22096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4920" y="1219320"/>
            <a:ext cx="220968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peab saatma  teksti “Ahoi, ter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e läheb masinani E, a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E crashib (läheb katki, programm läheb segamini, vool läheb ära vm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rgu alusprotokoll: IP ise ei kontrolli, kas te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õudis pära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4572000" y="2890800"/>
            <a:ext cx="533520" cy="542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71500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 crash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3733920" y="3424320"/>
            <a:ext cx="685800" cy="856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838080" y="604800"/>
            <a:ext cx="7772400" cy="311040"/>
            <a:chOff x="838080" y="604800"/>
            <a:chExt cx="7772400" cy="311040"/>
          </a:xfrm>
        </p:grpSpPr>
        <p:sp>
          <p:nvSpPr>
            <p:cNvPr id="481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8609040" y="6048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484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488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492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496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500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504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508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512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516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 flipV="1">
            <a:off x="3657600" y="2585880"/>
            <a:ext cx="152388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3424320" y="3048120"/>
            <a:ext cx="856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5410080" y="2052720"/>
            <a:ext cx="687600" cy="466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4871520" y="2819520"/>
            <a:ext cx="466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347640" y="3962520"/>
            <a:ext cx="3133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4109760" y="3809880"/>
            <a:ext cx="6951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3124080" y="3881160"/>
            <a:ext cx="15264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505320" y="3576600"/>
            <a:ext cx="11430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191120" y="4871520"/>
            <a:ext cx="129672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5638680" y="3957120"/>
            <a:ext cx="76212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657600" y="1824120"/>
            <a:ext cx="22096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4920" y="1219320"/>
            <a:ext cx="2344680" cy="65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peab saatma  teksti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hoi, 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lõhub pika  teksti kaheks paketik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hoi,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“ läh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e E-&gt;X, a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läheb E-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eühendus rikk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leiab, et saab saata teate teise 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X-ile 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 L kaud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572000" y="2890800"/>
            <a:ext cx="533520" cy="542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3733920" y="3424320"/>
            <a:ext cx="685800" cy="856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710320" y="2356920"/>
            <a:ext cx="1457280" cy="3906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364160" y="2631960"/>
            <a:ext cx="1583640" cy="80388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runeb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838080" y="604800"/>
            <a:ext cx="7772400" cy="311040"/>
            <a:chOff x="838080" y="604800"/>
            <a:chExt cx="7772400" cy="311040"/>
          </a:xfrm>
        </p:grpSpPr>
        <p:sp>
          <p:nvSpPr>
            <p:cNvPr id="553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8609040" y="6048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556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560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564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568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572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576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580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584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588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 flipV="1">
            <a:off x="3657600" y="2585880"/>
            <a:ext cx="152388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3424320" y="3048120"/>
            <a:ext cx="856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410080" y="2052720"/>
            <a:ext cx="687600" cy="466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871520" y="2819520"/>
            <a:ext cx="466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3347640" y="3962520"/>
            <a:ext cx="3133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4109760" y="3809880"/>
            <a:ext cx="6951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3124080" y="3881160"/>
            <a:ext cx="15264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05320" y="3576600"/>
            <a:ext cx="11430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4191120" y="4871520"/>
            <a:ext cx="129672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5638680" y="3957120"/>
            <a:ext cx="76212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657600" y="1824120"/>
            <a:ext cx="22096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4920" y="1219320"/>
            <a:ext cx="22096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suunabki te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e L, 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nab selle masinasse X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ks teksti 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ikusid eri teid pid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4572000" y="2890800"/>
            <a:ext cx="533520" cy="542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3733920" y="3424320"/>
            <a:ext cx="685800" cy="856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5710320" y="2356920"/>
            <a:ext cx="1457280" cy="3906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360560" y="2631960"/>
            <a:ext cx="1946160" cy="151308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runenu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ga po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hullu .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410080" y="2971800"/>
            <a:ext cx="609840" cy="533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6319800" y="2204640"/>
            <a:ext cx="238320" cy="13050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1760" y="-131760"/>
            <a:ext cx="814068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838080" y="604800"/>
            <a:ext cx="7772400" cy="311040"/>
            <a:chOff x="838080" y="604800"/>
            <a:chExt cx="7772400" cy="311040"/>
          </a:xfrm>
        </p:grpSpPr>
        <p:sp>
          <p:nvSpPr>
            <p:cNvPr id="627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8609040" y="6048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630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634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638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642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646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650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654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658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662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 flipV="1">
            <a:off x="3657600" y="2585880"/>
            <a:ext cx="152388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3424320" y="3048120"/>
            <a:ext cx="856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5410080" y="2052720"/>
            <a:ext cx="687600" cy="466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4871520" y="2819520"/>
            <a:ext cx="466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347640" y="3962520"/>
            <a:ext cx="3133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109760" y="3809880"/>
            <a:ext cx="6951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3124080" y="3881160"/>
            <a:ext cx="15264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05320" y="3576600"/>
            <a:ext cx="11430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4191120" y="4871520"/>
            <a:ext cx="129672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5638680" y="3957120"/>
            <a:ext cx="76212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3657600" y="1824120"/>
            <a:ext cx="22096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04920" y="1219320"/>
            <a:ext cx="22096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ljem saad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uue teat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 t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masinale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suunab esimese 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“ läbi masina 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4572000" y="2890800"/>
            <a:ext cx="533520" cy="542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3733920" y="3424320"/>
            <a:ext cx="685800" cy="856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5710320" y="2356920"/>
            <a:ext cx="1457280" cy="3906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364520" y="2631960"/>
            <a:ext cx="1524240" cy="80388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ikk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410080" y="2971800"/>
            <a:ext cx="609840" cy="533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6319800" y="2204640"/>
            <a:ext cx="238320" cy="13050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838080" y="604800"/>
            <a:ext cx="7772400" cy="311040"/>
            <a:chOff x="838080" y="604800"/>
            <a:chExt cx="7772400" cy="311040"/>
          </a:xfrm>
        </p:grpSpPr>
        <p:sp>
          <p:nvSpPr>
            <p:cNvPr id="701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8609040" y="6048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704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708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712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716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720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724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728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732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736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 flipV="1">
            <a:off x="3657600" y="2585880"/>
            <a:ext cx="152388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3424320" y="3048120"/>
            <a:ext cx="856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5410080" y="2052720"/>
            <a:ext cx="687600" cy="46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4871520" y="2819520"/>
            <a:ext cx="466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3347640" y="3962520"/>
            <a:ext cx="3133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4109760" y="3809880"/>
            <a:ext cx="6951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3124080" y="3881160"/>
            <a:ext cx="15264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3505320" y="3576600"/>
            <a:ext cx="11430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4191120" y="4871520"/>
            <a:ext cx="129672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5638680" y="3957120"/>
            <a:ext cx="76212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657600" y="1824120"/>
            <a:ext cx="22096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04920" y="1219320"/>
            <a:ext cx="220968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läheb otseühendus kord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E suunab os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t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otse masinale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ine osa võib seega jõuda kohale enne esimes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4572000" y="2890800"/>
            <a:ext cx="533520" cy="542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3733920" y="3424320"/>
            <a:ext cx="685800" cy="856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5710320" y="2356920"/>
            <a:ext cx="1457280" cy="3906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360200" y="2631960"/>
            <a:ext cx="1631520" cy="62604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äheb kord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5334120" y="2052360"/>
            <a:ext cx="457200" cy="314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: IP (internet protocol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protokoll o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kkulep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et kuidas infot saata ja sellest aru saada tuleb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protokoll lubab saata ainult väikeseid tekstijupp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tekstijupi ette pannakse lisainfo (päis ehk header), mis ütleb, e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hu see tekst siis saata tuleb (IP aadres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st  tekst tuli (saatja IP aadres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 lisainfot ka v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77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1143000" y="3809880"/>
            <a:ext cx="6019920" cy="685800"/>
            <a:chOff x="1143000" y="3809880"/>
            <a:chExt cx="6019920" cy="685800"/>
          </a:xfrm>
        </p:grpSpPr>
        <p:sp>
          <p:nvSpPr>
            <p:cNvPr id="777" name=""/>
            <p:cNvSpPr/>
            <p:nvPr/>
          </p:nvSpPr>
          <p:spPr>
            <a:xfrm>
              <a:off x="1143000" y="3809880"/>
              <a:ext cx="601992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143000" y="3809880"/>
              <a:ext cx="601992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äis                     Sisutekst (dat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2666880" y="38098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P (Internet Protocol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CP/IP pere tööhobu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FC 79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aranteerib marsruutimise, st minemise õiges suun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tteusaldusväärne - ei taga kohalejõudmi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sisendpuhver on täis, siis ignoreerib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loo kanali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ga datagrammi käsitletakse sõltumatul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: IP (internet protocol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semalt (pole vaja pähe jätta!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785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6096240" cy="458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järgmised protokollid: UDP ja TCP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põhi-protokolli, mis kasutavad IP-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UDP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(user datagram protocol). Ei kontrollita, kas info jõudis pärale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CP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(transfer control protocol). Toimub kontroll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mbalgi puhul (TCP näitel):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791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838080" y="2895480"/>
            <a:ext cx="6019920" cy="685800"/>
            <a:chOff x="838080" y="2895480"/>
            <a:chExt cx="6019920" cy="685800"/>
          </a:xfrm>
        </p:grpSpPr>
        <p:sp>
          <p:nvSpPr>
            <p:cNvPr id="794" name=""/>
            <p:cNvSpPr/>
            <p:nvPr/>
          </p:nvSpPr>
          <p:spPr>
            <a:xfrm>
              <a:off x="838080" y="2895480"/>
              <a:ext cx="601992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38080" y="2895480"/>
              <a:ext cx="601992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 Päis                     Sisutekst (dat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2133720" y="2895480"/>
            <a:ext cx="1440" cy="685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2209680" y="4876920"/>
            <a:ext cx="4648320" cy="761760"/>
            <a:chOff x="2209680" y="4876920"/>
            <a:chExt cx="4648320" cy="761760"/>
          </a:xfrm>
        </p:grpSpPr>
        <p:sp>
          <p:nvSpPr>
            <p:cNvPr id="798" name=""/>
            <p:cNvSpPr/>
            <p:nvPr/>
          </p:nvSpPr>
          <p:spPr>
            <a:xfrm>
              <a:off x="2209680" y="4876920"/>
              <a:ext cx="4648320" cy="76176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209680" y="4876920"/>
              <a:ext cx="4648320" cy="76176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 Päis            Vajalik  sisutek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3581280" y="4952880"/>
            <a:ext cx="1800" cy="6098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133720" y="3733920"/>
            <a:ext cx="144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858000" y="3733920"/>
            <a:ext cx="144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813400" y="3962520"/>
            <a:ext cx="415908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saldab omakorda päisega inf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116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. Interneti funktsion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irülevaade võrgunduse funktsioneerimis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irülevaade interneti funktsioneerimis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asmehhanismi, IP funktsion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CP ja UDP: kaks täiendavat protokolli IP-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 kihilisest protokollindusest: ISO/OSI mud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ud sideprotokoll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NS funktsion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id brauseriga ja telnetig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56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UDP (User Datagram Protocol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ga rakenduse väljund tekitab uue datagramm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taga usaldatav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atagrammi ehit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ähte- ja sihtport (kumbki kaks baiti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atagrammi pikkus (kaks baiti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ntrollsumma (kaks baiti, pole kohustuslik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meosa (varieeruva pikkusega hulk baite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DP paketi maksimaalpikkus on seega 64 kilobait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ntrollsumma vea puhul unustatakse datagram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akendused: DNS, NFS, TFT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985320" y="3200400"/>
            <a:ext cx="390600" cy="762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CP(Transmission Control Protocol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hendusorienteeri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saldata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oo tüüp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Jagab voo segmentide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tes käivitab taimeri ja ootab kinnitus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nnitab saadud segmendi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ntrollsumma päisest ja andmetes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rrastab segmentide järjestus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nustab dublikaadi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ntrollib voo mahtu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61840" y="13456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s elab korraga palju programme ja igaüks tahab saada/saata oma pakette. Millisele programmile konkreetne pakett saata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le antakse kasutamiseks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ummerdatud TCP või UDP port (need ei ole füüsilised pistikud!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e määravad: IP aadressid, pordid, protokol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838080" y="3429000"/>
            <a:ext cx="2667240" cy="2743200"/>
            <a:chOff x="838080" y="3429000"/>
            <a:chExt cx="2667240" cy="2743200"/>
          </a:xfrm>
        </p:grpSpPr>
        <p:sp>
          <p:nvSpPr>
            <p:cNvPr id="812" name=""/>
            <p:cNvSpPr/>
            <p:nvPr/>
          </p:nvSpPr>
          <p:spPr>
            <a:xfrm>
              <a:off x="838080" y="3429000"/>
              <a:ext cx="2667240" cy="2743200"/>
            </a:xfrm>
            <a:custGeom>
              <a:avLst/>
              <a:gdLst>
                <a:gd name="textAreaLeft" fmla="*/ 360 w 2667240"/>
                <a:gd name="textAreaRight" fmla="*/ 2666880 w 2667240"/>
                <a:gd name="textAreaTop" fmla="*/ 360 h 2743200"/>
                <a:gd name="textAreaBottom" fmla="*/ 2742840 h 2743200"/>
              </a:gdLst>
              <a:ahLst/>
              <a:rect l="textAreaLeft" t="textAreaTop" r="textAreaRight" b="textAreaBottom"/>
              <a:pathLst>
                <a:path w="21600" h="22215">
                  <a:moveTo>
                    <a:pt x="12" y="0"/>
                  </a:moveTo>
                  <a:arcTo wR="12" hR="12" stAng="16200000" swAng="-5400000"/>
                  <a:lnTo>
                    <a:pt x="0" y="22203"/>
                  </a:lnTo>
                  <a:arcTo wR="12" hR="12" stAng="10800000" swAng="-5400000"/>
                  <a:lnTo>
                    <a:pt x="21588" y="22215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38080" y="3429000"/>
              <a:ext cx="2667240" cy="2743200"/>
            </a:xfrm>
            <a:custGeom>
              <a:avLst/>
              <a:gdLst>
                <a:gd name="textAreaLeft" fmla="*/ 360 w 2667240"/>
                <a:gd name="textAreaRight" fmla="*/ 2666880 w 2667240"/>
                <a:gd name="textAreaTop" fmla="*/ 360 h 2743200"/>
                <a:gd name="textAreaBottom" fmla="*/ 2742840 h 2743200"/>
              </a:gdLst>
              <a:ahLst/>
              <a:rect l="textAreaLeft" t="textAreaTop" r="textAreaRight" b="textAreaBottom"/>
              <a:pathLst>
                <a:path w="21600" h="22215">
                  <a:moveTo>
                    <a:pt x="12" y="0"/>
                  </a:moveTo>
                  <a:arcTo wR="12" hR="12" stAng="16200000" swAng="-5400000"/>
                  <a:lnTo>
                    <a:pt x="0" y="22203"/>
                  </a:lnTo>
                  <a:arcTo wR="12" hR="12" stAng="10800000" swAng="-5400000"/>
                  <a:lnTo>
                    <a:pt x="21588" y="22215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Masin o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IP aadressiga  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Programmid tem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www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ftp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tel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... jne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6477120" y="3276720"/>
            <a:ext cx="2361960" cy="2971800"/>
          </a:xfrm>
          <a:custGeom>
            <a:avLst/>
            <a:gdLst>
              <a:gd name="textAreaLeft" fmla="*/ 360 w 2361960"/>
              <a:gd name="textAreaRight" fmla="*/ 2361600 w 2361960"/>
              <a:gd name="textAreaTop" fmla="*/ 360 h 2971800"/>
              <a:gd name="textAreaBottom" fmla="*/ 2971440 h 2971800"/>
            </a:gdLst>
            <a:ahLst/>
            <a:rect l="textAreaLeft" t="textAreaTop" r="textAreaRight" b="textAreaBottom"/>
            <a:pathLst>
              <a:path w="21600" h="27176">
                <a:moveTo>
                  <a:pt x="14" y="0"/>
                </a:moveTo>
                <a:arcTo wR="14" hR="14" stAng="16200000" swAng="-5400000"/>
                <a:lnTo>
                  <a:pt x="0" y="27162"/>
                </a:lnTo>
                <a:arcTo wR="14" hR="14" stAng="10800000" swAng="-5400000"/>
                <a:lnTo>
                  <a:pt x="21586" y="27176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4191120" y="3505320"/>
            <a:ext cx="304560" cy="304560"/>
            <a:chOff x="4191120" y="3505320"/>
            <a:chExt cx="304560" cy="304560"/>
          </a:xfrm>
        </p:grpSpPr>
        <p:sp>
          <p:nvSpPr>
            <p:cNvPr id="816" name=""/>
            <p:cNvSpPr/>
            <p:nvPr/>
          </p:nvSpPr>
          <p:spPr>
            <a:xfrm>
              <a:off x="4191120" y="3505320"/>
              <a:ext cx="304560" cy="30456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235400" y="3549600"/>
              <a:ext cx="214200" cy="21420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4191120" y="4343400"/>
            <a:ext cx="304560" cy="380880"/>
            <a:chOff x="4191120" y="4343400"/>
            <a:chExt cx="304560" cy="380880"/>
          </a:xfrm>
        </p:grpSpPr>
        <p:sp>
          <p:nvSpPr>
            <p:cNvPr id="819" name=""/>
            <p:cNvSpPr/>
            <p:nvPr/>
          </p:nvSpPr>
          <p:spPr>
            <a:xfrm>
              <a:off x="4191120" y="4343400"/>
              <a:ext cx="304560" cy="3808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235400" y="4398840"/>
              <a:ext cx="214200" cy="268560"/>
            </a:xfrm>
            <a:custGeom>
              <a:avLst/>
              <a:gdLst>
                <a:gd name="textAreaLeft" fmla="*/ 360 w 214200"/>
                <a:gd name="textAreaRight" fmla="*/ 213840 w 214200"/>
                <a:gd name="textAreaTop" fmla="*/ 360 h 268560"/>
                <a:gd name="textAreaBottom" fmla="*/ 268200 h 268560"/>
              </a:gdLst>
              <a:ahLst/>
              <a:rect l="textAreaLeft" t="textAreaTop" r="textAreaRight" b="textAreaBottom"/>
              <a:pathLst>
                <a:path w="21600" h="27072">
                  <a:moveTo>
                    <a:pt x="161" y="0"/>
                  </a:moveTo>
                  <a:arcTo wR="161" hR="161" stAng="16200000" swAng="-5400000"/>
                  <a:lnTo>
                    <a:pt x="0" y="26911"/>
                  </a:lnTo>
                  <a:arcTo wR="161" hR="161" stAng="10800000" swAng="-5400000"/>
                  <a:lnTo>
                    <a:pt x="21439" y="27072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4191120" y="5791320"/>
            <a:ext cx="304560" cy="304560"/>
            <a:chOff x="4191120" y="5791320"/>
            <a:chExt cx="304560" cy="304560"/>
          </a:xfrm>
        </p:grpSpPr>
        <p:sp>
          <p:nvSpPr>
            <p:cNvPr id="822" name=""/>
            <p:cNvSpPr/>
            <p:nvPr/>
          </p:nvSpPr>
          <p:spPr>
            <a:xfrm>
              <a:off x="4191120" y="5791320"/>
              <a:ext cx="304560" cy="30456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235400" y="5835600"/>
              <a:ext cx="214200" cy="21420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5791320" y="3429000"/>
            <a:ext cx="304560" cy="304920"/>
            <a:chOff x="5791320" y="3429000"/>
            <a:chExt cx="304560" cy="304920"/>
          </a:xfrm>
        </p:grpSpPr>
        <p:sp>
          <p:nvSpPr>
            <p:cNvPr id="825" name=""/>
            <p:cNvSpPr/>
            <p:nvPr/>
          </p:nvSpPr>
          <p:spPr>
            <a:xfrm>
              <a:off x="5791320" y="3429000"/>
              <a:ext cx="304560" cy="30492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35600" y="3473280"/>
              <a:ext cx="214200" cy="216000"/>
            </a:xfrm>
            <a:custGeom>
              <a:avLst/>
              <a:gdLst>
                <a:gd name="textAreaLeft" fmla="*/ 360 w 214200"/>
                <a:gd name="textAreaRight" fmla="*/ 213840 w 214200"/>
                <a:gd name="textAreaTop" fmla="*/ 360 h 216000"/>
                <a:gd name="textAreaBottom" fmla="*/ 215640 h 216000"/>
              </a:gdLst>
              <a:ahLst/>
              <a:rect l="textAreaLeft" t="textAreaTop" r="textAreaRight" b="textAreaBottom"/>
              <a:pathLst>
                <a:path w="21600" h="21781">
                  <a:moveTo>
                    <a:pt x="161" y="0"/>
                  </a:moveTo>
                  <a:arcTo wR="161" hR="161" stAng="16200000" swAng="-5400000"/>
                  <a:lnTo>
                    <a:pt x="0" y="21620"/>
                  </a:lnTo>
                  <a:arcTo wR="161" hR="161" stAng="10800000" swAng="-5400000"/>
                  <a:lnTo>
                    <a:pt x="21439" y="21781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5715000" y="4267080"/>
            <a:ext cx="304920" cy="304920"/>
            <a:chOff x="5715000" y="4267080"/>
            <a:chExt cx="304920" cy="304920"/>
          </a:xfrm>
        </p:grpSpPr>
        <p:sp>
          <p:nvSpPr>
            <p:cNvPr id="828" name=""/>
            <p:cNvSpPr/>
            <p:nvPr/>
          </p:nvSpPr>
          <p:spPr>
            <a:xfrm>
              <a:off x="5715000" y="4267080"/>
              <a:ext cx="304920" cy="30492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759280" y="4311720"/>
              <a:ext cx="216000" cy="216000"/>
            </a:xfrm>
            <a:prstGeom prst="roundRect">
              <a:avLst>
                <a:gd name="adj" fmla="val 7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791320" y="5715000"/>
            <a:ext cx="304560" cy="304920"/>
            <a:chOff x="5791320" y="5715000"/>
            <a:chExt cx="304560" cy="304920"/>
          </a:xfrm>
        </p:grpSpPr>
        <p:sp>
          <p:nvSpPr>
            <p:cNvPr id="831" name=""/>
            <p:cNvSpPr/>
            <p:nvPr/>
          </p:nvSpPr>
          <p:spPr>
            <a:xfrm>
              <a:off x="5791320" y="5715000"/>
              <a:ext cx="304560" cy="30492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835600" y="5759280"/>
              <a:ext cx="214200" cy="216000"/>
            </a:xfrm>
            <a:custGeom>
              <a:avLst/>
              <a:gdLst>
                <a:gd name="textAreaLeft" fmla="*/ 360 w 214200"/>
                <a:gd name="textAreaRight" fmla="*/ 213840 w 214200"/>
                <a:gd name="textAreaTop" fmla="*/ 360 h 216000"/>
                <a:gd name="textAreaBottom" fmla="*/ 215640 h 216000"/>
              </a:gdLst>
              <a:ahLst/>
              <a:rect l="textAreaLeft" t="textAreaTop" r="textAreaRight" b="textAreaBottom"/>
              <a:pathLst>
                <a:path w="21600" h="21781">
                  <a:moveTo>
                    <a:pt x="161" y="0"/>
                  </a:moveTo>
                  <a:arcTo wR="161" hR="161" stAng="16200000" swAng="-5400000"/>
                  <a:lnTo>
                    <a:pt x="0" y="21620"/>
                  </a:lnTo>
                  <a:arcTo wR="161" hR="161" stAng="10800000" swAng="-5400000"/>
                  <a:lnTo>
                    <a:pt x="21439" y="21781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 flipH="1">
            <a:off x="3500280" y="3657600"/>
            <a:ext cx="695520" cy="7632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3423960" y="4572000"/>
            <a:ext cx="77148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 flipV="1">
            <a:off x="3500280" y="5862600"/>
            <a:ext cx="695520" cy="8568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095880" y="3581280"/>
            <a:ext cx="38124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019920" y="4419720"/>
            <a:ext cx="4572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95880" y="5867280"/>
            <a:ext cx="45720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2286000" y="3728880"/>
            <a:ext cx="1219320" cy="12290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2133720" y="4567320"/>
            <a:ext cx="1295280" cy="6192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1905120" y="4948200"/>
            <a:ext cx="1752480" cy="542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21640" y="5105520"/>
            <a:ext cx="486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645520" y="4952880"/>
            <a:ext cx="486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4490640" y="3657600"/>
            <a:ext cx="1305000" cy="76212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 flipV="1">
            <a:off x="4414680" y="3728880"/>
            <a:ext cx="1229040" cy="61920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4566960" y="5867280"/>
            <a:ext cx="1152360" cy="7632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511320" y="3389400"/>
            <a:ext cx="2449080" cy="2763360"/>
          </a:xfrm>
          <a:custGeom>
            <a:avLst/>
            <a:gdLst>
              <a:gd name="textAreaLeft" fmla="*/ 360 w 2449080"/>
              <a:gd name="textAreaRight" fmla="*/ 2448720 w 2449080"/>
              <a:gd name="textAreaTop" fmla="*/ 360 h 2763360"/>
              <a:gd name="textAreaBottom" fmla="*/ 2763000 h 2763360"/>
            </a:gdLst>
            <a:ahLst/>
            <a:rect l="textAreaLeft" t="textAreaTop" r="textAreaRight" b="textAreaBottom"/>
            <a:pathLst>
              <a:path w="21600" h="24371">
                <a:moveTo>
                  <a:pt x="15" y="0"/>
                </a:moveTo>
                <a:arcTo wR="15" hR="15" stAng="16200000" swAng="-5400000"/>
                <a:lnTo>
                  <a:pt x="0" y="24356"/>
                </a:lnTo>
                <a:arcTo wR="15" hR="15" stAng="10800000" swAng="-5400000"/>
                <a:lnTo>
                  <a:pt x="21585" y="24371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 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iga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 te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ww bra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tp k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 jn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400800" y="5334120"/>
            <a:ext cx="152280" cy="380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477120" y="3581280"/>
            <a:ext cx="457200" cy="19051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477120" y="4419720"/>
            <a:ext cx="228600" cy="7617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ortide liigit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 - 1023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tuntud pordid, sh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1       FTP – TC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3       telnet – TC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517     UD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024 – 5000      klientprogrammide ajutised por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gt;5000                muud (mitte-üldtuntud) server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lient - server mud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25480" y="1468080"/>
            <a:ext cx="7848720" cy="492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4440" indent="-334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ldine algorit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 ootab mingil üldteada pordil ühenduskutse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t reserveerib dünaamilise pord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t saadab serverile ühenduskutse (koos oma pordinumbriga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 vastab kliendile tema pordinumbri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440" indent="-334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ereeriv serv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võta vastu uut kutset enne eelneva töötlemis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440" indent="-334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ralleelne serv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ivitab iga kutse jaoks eraldi serveri ajutise pordinumbriga selle ühenduse jao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ga on mitme ajas lähestikuse kutse järel masinas käimas mitu “koopiat” ehk protsessi või threadi ühest serveris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utajatele paistab, et need “koopiad” käivad korraga, tegelikult hoolitseb selle “kooskäimise simulatsiooni” eest opsüstee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SO - OSI mud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2979720" y="1676520"/>
          <a:ext cx="354492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9720" y="1676520"/>
                    <a:ext cx="354492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SI mudeli kih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ides (interfac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ma süsteemi eri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htide suhtlusviis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mavahe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tokoll (protocol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ri süsteemide samade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htide suhtlusviis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mavahe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4435560" y="2354400"/>
          <a:ext cx="4216320" cy="30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35560" y="2354400"/>
                    <a:ext cx="4216320" cy="30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apseld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863" name=""/>
          <p:cNvGraphicFramePr/>
          <p:nvPr/>
        </p:nvGraphicFramePr>
        <p:xfrm>
          <a:off x="2265480" y="1889280"/>
          <a:ext cx="4670280" cy="39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5480" y="1889280"/>
                    <a:ext cx="4670280" cy="39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tokollipered (internet ja mõned muud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1646280" y="1676520"/>
          <a:ext cx="623232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676520"/>
                    <a:ext cx="62323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"/>
          <p:cNvGraphicFramePr/>
          <p:nvPr/>
        </p:nvGraphicFramePr>
        <p:xfrm>
          <a:off x="2209680" y="1066680"/>
          <a:ext cx="4572000" cy="518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1066680"/>
                    <a:ext cx="45720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"/>
          <p:cNvSpPr/>
          <p:nvPr/>
        </p:nvSpPr>
        <p:spPr>
          <a:xfrm flipH="1" flipV="1">
            <a:off x="6776640" y="2814480"/>
            <a:ext cx="924120" cy="695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391880" y="3505320"/>
            <a:ext cx="1219320" cy="119196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sa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tokol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hekokkuvõte protokollindusest internet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875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2971800" y="5638680"/>
            <a:ext cx="3581280" cy="457200"/>
            <a:chOff x="2971800" y="5638680"/>
            <a:chExt cx="3581280" cy="457200"/>
          </a:xfrm>
        </p:grpSpPr>
        <p:sp>
          <p:nvSpPr>
            <p:cNvPr id="878" name=""/>
            <p:cNvSpPr/>
            <p:nvPr/>
          </p:nvSpPr>
          <p:spPr>
            <a:xfrm>
              <a:off x="2971800" y="5638680"/>
              <a:ext cx="3581280" cy="45720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71800" y="5638680"/>
              <a:ext cx="3581280" cy="4572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üüsiline ki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2971800" y="5029200"/>
            <a:ext cx="3581280" cy="457200"/>
            <a:chOff x="2971800" y="5029200"/>
            <a:chExt cx="3581280" cy="457200"/>
          </a:xfrm>
        </p:grpSpPr>
        <p:sp>
          <p:nvSpPr>
            <p:cNvPr id="881" name=""/>
            <p:cNvSpPr/>
            <p:nvPr/>
          </p:nvSpPr>
          <p:spPr>
            <a:xfrm>
              <a:off x="2971800" y="5029200"/>
              <a:ext cx="3581280" cy="45720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971800" y="5029200"/>
              <a:ext cx="3581280" cy="4572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thernet / SLIP / 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2895480" y="4038480"/>
            <a:ext cx="3581640" cy="533520"/>
            <a:chOff x="2895480" y="4038480"/>
            <a:chExt cx="3581640" cy="533520"/>
          </a:xfrm>
        </p:grpSpPr>
        <p:sp>
          <p:nvSpPr>
            <p:cNvPr id="884" name=""/>
            <p:cNvSpPr/>
            <p:nvPr/>
          </p:nvSpPr>
          <p:spPr>
            <a:xfrm>
              <a:off x="2895480" y="4038480"/>
              <a:ext cx="3581640" cy="533520"/>
            </a:xfrm>
            <a:prstGeom prst="roundRect">
              <a:avLst>
                <a:gd name="adj" fmla="val 296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95480" y="4038480"/>
              <a:ext cx="3581640" cy="53352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2133720" y="2666880"/>
            <a:ext cx="1600200" cy="762120"/>
            <a:chOff x="2133720" y="2666880"/>
            <a:chExt cx="1600200" cy="762120"/>
          </a:xfrm>
        </p:grpSpPr>
        <p:sp>
          <p:nvSpPr>
            <p:cNvPr id="887" name=""/>
            <p:cNvSpPr/>
            <p:nvPr/>
          </p:nvSpPr>
          <p:spPr>
            <a:xfrm>
              <a:off x="2133720" y="2666880"/>
              <a:ext cx="1600200" cy="7621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133720" y="2666880"/>
              <a:ext cx="1600200" cy="7621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562720" y="2743200"/>
            <a:ext cx="1600200" cy="762120"/>
            <a:chOff x="5562720" y="2743200"/>
            <a:chExt cx="1600200" cy="762120"/>
          </a:xfrm>
        </p:grpSpPr>
        <p:sp>
          <p:nvSpPr>
            <p:cNvPr id="890" name=""/>
            <p:cNvSpPr/>
            <p:nvPr/>
          </p:nvSpPr>
          <p:spPr>
            <a:xfrm>
              <a:off x="5562720" y="2743200"/>
              <a:ext cx="1600200" cy="7621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562720" y="2743200"/>
              <a:ext cx="1600200" cy="7621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1219320" y="1600200"/>
            <a:ext cx="1066680" cy="685800"/>
            <a:chOff x="1219320" y="1600200"/>
            <a:chExt cx="1066680" cy="685800"/>
          </a:xfrm>
        </p:grpSpPr>
        <p:sp>
          <p:nvSpPr>
            <p:cNvPr id="893" name=""/>
            <p:cNvSpPr/>
            <p:nvPr/>
          </p:nvSpPr>
          <p:spPr>
            <a:xfrm>
              <a:off x="12193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2193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2438280" y="1600200"/>
            <a:ext cx="1067040" cy="685800"/>
            <a:chOff x="2438280" y="1600200"/>
            <a:chExt cx="1067040" cy="685800"/>
          </a:xfrm>
        </p:grpSpPr>
        <p:sp>
          <p:nvSpPr>
            <p:cNvPr id="896" name=""/>
            <p:cNvSpPr/>
            <p:nvPr/>
          </p:nvSpPr>
          <p:spPr>
            <a:xfrm>
              <a:off x="2438280" y="1600200"/>
              <a:ext cx="106704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1600200"/>
              <a:ext cx="106704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657600" y="1600200"/>
            <a:ext cx="1066680" cy="685800"/>
            <a:chOff x="3657600" y="1600200"/>
            <a:chExt cx="1066680" cy="685800"/>
          </a:xfrm>
        </p:grpSpPr>
        <p:sp>
          <p:nvSpPr>
            <p:cNvPr id="899" name=""/>
            <p:cNvSpPr/>
            <p:nvPr/>
          </p:nvSpPr>
          <p:spPr>
            <a:xfrm>
              <a:off x="365760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65760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5334120" y="1600200"/>
            <a:ext cx="1066680" cy="685800"/>
            <a:chOff x="5334120" y="1600200"/>
            <a:chExt cx="1066680" cy="685800"/>
          </a:xfrm>
        </p:grpSpPr>
        <p:sp>
          <p:nvSpPr>
            <p:cNvPr id="902" name=""/>
            <p:cNvSpPr/>
            <p:nvPr/>
          </p:nvSpPr>
          <p:spPr>
            <a:xfrm>
              <a:off x="53341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3341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6705720" y="1600200"/>
            <a:ext cx="1066680" cy="685800"/>
            <a:chOff x="6705720" y="1600200"/>
            <a:chExt cx="1066680" cy="685800"/>
          </a:xfrm>
        </p:grpSpPr>
        <p:sp>
          <p:nvSpPr>
            <p:cNvPr id="905" name=""/>
            <p:cNvSpPr/>
            <p:nvPr/>
          </p:nvSpPr>
          <p:spPr>
            <a:xfrm>
              <a:off x="67057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7057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1344600" y="2379600"/>
            <a:ext cx="6411960" cy="2409840"/>
          </a:xfrm>
          <a:custGeom>
            <a:avLst/>
            <a:gdLst/>
            <a:ahLst/>
            <a:rect l="l" t="t" r="r" b="b"/>
            <a:pathLst>
              <a:path w="17812" h="6692">
                <a:moveTo>
                  <a:pt x="1905" y="524"/>
                </a:moveTo>
                <a:cubicBezTo>
                  <a:pt x="1525" y="577"/>
                  <a:pt x="996" y="688"/>
                  <a:pt x="674" y="899"/>
                </a:cubicBezTo>
                <a:cubicBezTo>
                  <a:pt x="176" y="1230"/>
                  <a:pt x="555" y="1032"/>
                  <a:pt x="224" y="1195"/>
                </a:cubicBezTo>
                <a:cubicBezTo>
                  <a:pt x="110" y="1631"/>
                  <a:pt x="273" y="1045"/>
                  <a:pt x="110" y="1495"/>
                </a:cubicBezTo>
                <a:cubicBezTo>
                  <a:pt x="39" y="1684"/>
                  <a:pt x="52" y="1896"/>
                  <a:pt x="0" y="2095"/>
                </a:cubicBezTo>
                <a:cubicBezTo>
                  <a:pt x="48" y="2694"/>
                  <a:pt x="198" y="3360"/>
                  <a:pt x="710" y="3735"/>
                </a:cubicBezTo>
                <a:cubicBezTo>
                  <a:pt x="811" y="3894"/>
                  <a:pt x="965" y="3965"/>
                  <a:pt x="1084" y="4110"/>
                </a:cubicBezTo>
                <a:cubicBezTo>
                  <a:pt x="1274" y="4340"/>
                  <a:pt x="1349" y="4481"/>
                  <a:pt x="1644" y="4560"/>
                </a:cubicBezTo>
                <a:cubicBezTo>
                  <a:pt x="1812" y="4670"/>
                  <a:pt x="1962" y="4820"/>
                  <a:pt x="2130" y="4931"/>
                </a:cubicBezTo>
                <a:cubicBezTo>
                  <a:pt x="2306" y="5050"/>
                  <a:pt x="2557" y="5059"/>
                  <a:pt x="2725" y="5195"/>
                </a:cubicBezTo>
                <a:cubicBezTo>
                  <a:pt x="2972" y="5398"/>
                  <a:pt x="3192" y="5689"/>
                  <a:pt x="3510" y="5791"/>
                </a:cubicBezTo>
                <a:cubicBezTo>
                  <a:pt x="3730" y="5936"/>
                  <a:pt x="4035" y="6042"/>
                  <a:pt x="4295" y="6091"/>
                </a:cubicBezTo>
                <a:cubicBezTo>
                  <a:pt x="4520" y="6316"/>
                  <a:pt x="4608" y="6271"/>
                  <a:pt x="4930" y="6316"/>
                </a:cubicBezTo>
                <a:cubicBezTo>
                  <a:pt x="5472" y="6483"/>
                  <a:pt x="4864" y="6307"/>
                  <a:pt x="6350" y="6426"/>
                </a:cubicBezTo>
                <a:cubicBezTo>
                  <a:pt x="6575" y="6444"/>
                  <a:pt x="6756" y="6642"/>
                  <a:pt x="6985" y="6651"/>
                </a:cubicBezTo>
                <a:cubicBezTo>
                  <a:pt x="7633" y="6673"/>
                  <a:pt x="8281" y="6677"/>
                  <a:pt x="8930" y="6691"/>
                </a:cubicBezTo>
                <a:cubicBezTo>
                  <a:pt x="10707" y="6616"/>
                  <a:pt x="12449" y="6426"/>
                  <a:pt x="14231" y="6391"/>
                </a:cubicBezTo>
                <a:cubicBezTo>
                  <a:pt x="14469" y="6307"/>
                  <a:pt x="14729" y="6276"/>
                  <a:pt x="14980" y="6241"/>
                </a:cubicBezTo>
                <a:cubicBezTo>
                  <a:pt x="15364" y="6047"/>
                  <a:pt x="14901" y="6267"/>
                  <a:pt x="15280" y="6126"/>
                </a:cubicBezTo>
                <a:cubicBezTo>
                  <a:pt x="15412" y="6077"/>
                  <a:pt x="15518" y="5989"/>
                  <a:pt x="15651" y="5941"/>
                </a:cubicBezTo>
                <a:cubicBezTo>
                  <a:pt x="15862" y="5632"/>
                  <a:pt x="16286" y="5526"/>
                  <a:pt x="16621" y="5420"/>
                </a:cubicBezTo>
                <a:cubicBezTo>
                  <a:pt x="16735" y="5385"/>
                  <a:pt x="16846" y="5345"/>
                  <a:pt x="16960" y="5306"/>
                </a:cubicBezTo>
                <a:cubicBezTo>
                  <a:pt x="17044" y="5275"/>
                  <a:pt x="17185" y="5156"/>
                  <a:pt x="17185" y="5156"/>
                </a:cubicBezTo>
                <a:cubicBezTo>
                  <a:pt x="17811" y="4176"/>
                  <a:pt x="17256" y="1627"/>
                  <a:pt x="17256" y="1534"/>
                </a:cubicBezTo>
                <a:cubicBezTo>
                  <a:pt x="17247" y="1160"/>
                  <a:pt x="16965" y="846"/>
                  <a:pt x="16621" y="710"/>
                </a:cubicBezTo>
                <a:cubicBezTo>
                  <a:pt x="16039" y="127"/>
                  <a:pt x="15915" y="476"/>
                  <a:pt x="14605" y="449"/>
                </a:cubicBezTo>
                <a:cubicBezTo>
                  <a:pt x="14522" y="189"/>
                  <a:pt x="14173" y="269"/>
                  <a:pt x="13935" y="264"/>
                </a:cubicBezTo>
                <a:cubicBezTo>
                  <a:pt x="11695" y="242"/>
                  <a:pt x="9450" y="238"/>
                  <a:pt x="7210" y="224"/>
                </a:cubicBezTo>
                <a:cubicBezTo>
                  <a:pt x="7130" y="0"/>
                  <a:pt x="6981" y="176"/>
                  <a:pt x="6800" y="189"/>
                </a:cubicBezTo>
                <a:cubicBezTo>
                  <a:pt x="6500" y="211"/>
                  <a:pt x="6200" y="211"/>
                  <a:pt x="5900" y="224"/>
                </a:cubicBezTo>
                <a:cubicBezTo>
                  <a:pt x="5014" y="383"/>
                  <a:pt x="5984" y="224"/>
                  <a:pt x="3735" y="224"/>
                </a:cubicBezTo>
                <a:cubicBezTo>
                  <a:pt x="3435" y="224"/>
                  <a:pt x="3139" y="286"/>
                  <a:pt x="2840" y="299"/>
                </a:cubicBezTo>
                <a:cubicBezTo>
                  <a:pt x="2676" y="352"/>
                  <a:pt x="2487" y="427"/>
                  <a:pt x="2315" y="449"/>
                </a:cubicBezTo>
                <a:cubicBezTo>
                  <a:pt x="1869" y="507"/>
                  <a:pt x="1768" y="370"/>
                  <a:pt x="1905" y="524"/>
                </a:cubicBezTo>
                <a:lnTo>
                  <a:pt x="1905" y="524"/>
                </a:ln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1066680" y="4033440"/>
            <a:ext cx="838440" cy="130500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23120" y="5410080"/>
            <a:ext cx="317160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osa, reeg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sisse ehitat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 flipV="1">
            <a:off x="3195360" y="3499920"/>
            <a:ext cx="390600" cy="3906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5410080" y="3576240"/>
            <a:ext cx="381240" cy="314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6629400" y="2357280"/>
            <a:ext cx="380880" cy="3146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 flipV="1">
            <a:off x="6014880" y="2357280"/>
            <a:ext cx="162000" cy="3146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 flipV="1">
            <a:off x="2128680" y="2280960"/>
            <a:ext cx="162000" cy="314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895480" y="2357280"/>
            <a:ext cx="1800" cy="2383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3429000" y="2280960"/>
            <a:ext cx="304920" cy="314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648320" y="4643280"/>
            <a:ext cx="1440" cy="3146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4648320" y="5481720"/>
            <a:ext cx="1440" cy="1620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6624360" y="5334120"/>
            <a:ext cx="847800" cy="1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446960" y="4267080"/>
            <a:ext cx="1933920" cy="1956960"/>
          </a:xfrm>
          <a:custGeom>
            <a:avLst/>
            <a:gdLst>
              <a:gd name="textAreaLeft" fmla="*/ 360 w 1933920"/>
              <a:gd name="textAreaRight" fmla="*/ 1933560 w 1933920"/>
              <a:gd name="textAreaTop" fmla="*/ 360 h 1956960"/>
              <a:gd name="textAreaBottom" fmla="*/ 1956600 h 1956960"/>
            </a:gdLst>
            <a:ahLst/>
            <a:rect l="textAreaLeft" t="textAreaTop" r="textAreaRight" b="textAreaBottom"/>
            <a:pathLst>
              <a:path w="21600" h="21857">
                <a:moveTo>
                  <a:pt x="20" y="0"/>
                </a:moveTo>
                <a:arcTo wR="20" hR="20" stAng="16200000" swAng="-5400000"/>
                <a:lnTo>
                  <a:pt x="0" y="21837"/>
                </a:lnTo>
                <a:arcTo wR="20" hR="20" stAng="10800000" swAng="-5400000"/>
                <a:lnTo>
                  <a:pt x="21580" y="21857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tvõr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od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, tüüpilis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etav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ard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raiverit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887400" y="1157400"/>
            <a:ext cx="7292880" cy="1249200"/>
          </a:xfrm>
          <a:custGeom>
            <a:avLst/>
            <a:gdLst/>
            <a:ahLst/>
            <a:rect l="l" t="t" r="r" b="b"/>
            <a:pathLst>
              <a:path w="20259" h="3471">
                <a:moveTo>
                  <a:pt x="449" y="820"/>
                </a:moveTo>
                <a:cubicBezTo>
                  <a:pt x="317" y="1014"/>
                  <a:pt x="141" y="1142"/>
                  <a:pt x="74" y="1380"/>
                </a:cubicBezTo>
                <a:cubicBezTo>
                  <a:pt x="44" y="1490"/>
                  <a:pt x="0" y="1715"/>
                  <a:pt x="0" y="1715"/>
                </a:cubicBezTo>
                <a:cubicBezTo>
                  <a:pt x="26" y="1940"/>
                  <a:pt x="26" y="2169"/>
                  <a:pt x="74" y="2390"/>
                </a:cubicBezTo>
                <a:cubicBezTo>
                  <a:pt x="114" y="2562"/>
                  <a:pt x="189" y="2518"/>
                  <a:pt x="299" y="2575"/>
                </a:cubicBezTo>
                <a:cubicBezTo>
                  <a:pt x="476" y="2663"/>
                  <a:pt x="582" y="2840"/>
                  <a:pt x="745" y="2950"/>
                </a:cubicBezTo>
                <a:cubicBezTo>
                  <a:pt x="1093" y="3466"/>
                  <a:pt x="2152" y="3422"/>
                  <a:pt x="2650" y="3435"/>
                </a:cubicBezTo>
                <a:cubicBezTo>
                  <a:pt x="3474" y="3457"/>
                  <a:pt x="4295" y="3457"/>
                  <a:pt x="5119" y="3470"/>
                </a:cubicBezTo>
                <a:cubicBezTo>
                  <a:pt x="9988" y="3422"/>
                  <a:pt x="14856" y="3351"/>
                  <a:pt x="19725" y="3321"/>
                </a:cubicBezTo>
                <a:cubicBezTo>
                  <a:pt x="19862" y="3228"/>
                  <a:pt x="20095" y="2985"/>
                  <a:pt x="20095" y="2985"/>
                </a:cubicBezTo>
                <a:cubicBezTo>
                  <a:pt x="20258" y="2580"/>
                  <a:pt x="20210" y="2412"/>
                  <a:pt x="20170" y="1900"/>
                </a:cubicBezTo>
                <a:cubicBezTo>
                  <a:pt x="20166" y="1870"/>
                  <a:pt x="20122" y="1517"/>
                  <a:pt x="20095" y="1455"/>
                </a:cubicBezTo>
                <a:cubicBezTo>
                  <a:pt x="19932" y="1107"/>
                  <a:pt x="19959" y="1230"/>
                  <a:pt x="19760" y="1005"/>
                </a:cubicBezTo>
                <a:cubicBezTo>
                  <a:pt x="19663" y="890"/>
                  <a:pt x="19632" y="793"/>
                  <a:pt x="19500" y="705"/>
                </a:cubicBezTo>
                <a:cubicBezTo>
                  <a:pt x="19165" y="485"/>
                  <a:pt x="18900" y="511"/>
                  <a:pt x="18490" y="485"/>
                </a:cubicBezTo>
                <a:cubicBezTo>
                  <a:pt x="17767" y="224"/>
                  <a:pt x="18486" y="471"/>
                  <a:pt x="16435" y="410"/>
                </a:cubicBezTo>
                <a:cubicBezTo>
                  <a:pt x="15747" y="388"/>
                  <a:pt x="15064" y="330"/>
                  <a:pt x="14380" y="295"/>
                </a:cubicBezTo>
                <a:cubicBezTo>
                  <a:pt x="11593" y="0"/>
                  <a:pt x="12096" y="229"/>
                  <a:pt x="6575" y="260"/>
                </a:cubicBezTo>
                <a:cubicBezTo>
                  <a:pt x="5737" y="392"/>
                  <a:pt x="4881" y="401"/>
                  <a:pt x="4035" y="445"/>
                </a:cubicBezTo>
                <a:cubicBezTo>
                  <a:pt x="3743" y="524"/>
                  <a:pt x="3439" y="516"/>
                  <a:pt x="3139" y="560"/>
                </a:cubicBezTo>
                <a:cubicBezTo>
                  <a:pt x="2725" y="617"/>
                  <a:pt x="2319" y="692"/>
                  <a:pt x="1905" y="745"/>
                </a:cubicBezTo>
                <a:cubicBezTo>
                  <a:pt x="1411" y="904"/>
                  <a:pt x="952" y="890"/>
                  <a:pt x="449" y="820"/>
                </a:cubicBezTo>
                <a:lnTo>
                  <a:pt x="449" y="820"/>
                </a:lnTo>
              </a:path>
            </a:pathLst>
          </a:cu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609480" y="2281320"/>
            <a:ext cx="609840" cy="61920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0" y="2895480"/>
            <a:ext cx="182880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kend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ma protokoll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üüpilis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rakendu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127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irülevaade võrgunduse funktsioneerimi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61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773280" cy="546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696080" y="5181480"/>
            <a:ext cx="773280" cy="546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20600" y="2932200"/>
            <a:ext cx="3112200" cy="169092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1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äib ko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eg ja ootab, et kee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lle infot (mingi tekst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aks. Kui saadetaks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ta rehkendab vast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saadab vastu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65640" y="3276720"/>
            <a:ext cx="3124440" cy="169092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2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aad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le 1 masinas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, ootab vastu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järel vaatab, m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ses on, ja vastava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gutse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32960" y="1981080"/>
            <a:ext cx="1045440" cy="36900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sin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5334120"/>
            <a:ext cx="1045440" cy="36900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sin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2666880"/>
            <a:ext cx="4800600" cy="2743200"/>
          </a:xfrm>
          <a:prstGeom prst="line">
            <a:avLst/>
          </a:prstGeom>
          <a:ln w="25560">
            <a:solidFill>
              <a:srgbClr val="3333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414320" y="2209680"/>
            <a:ext cx="191484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37160" y="1789200"/>
            <a:ext cx="246456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 või raadio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 valguska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59080" y="4724280"/>
            <a:ext cx="5459040" cy="1490760"/>
            <a:chOff x="559080" y="4724280"/>
            <a:chExt cx="5459040" cy="1490760"/>
          </a:xfrm>
        </p:grpSpPr>
        <p:sp>
          <p:nvSpPr>
            <p:cNvPr id="73" name=""/>
            <p:cNvSpPr/>
            <p:nvPr/>
          </p:nvSpPr>
          <p:spPr>
            <a:xfrm>
              <a:off x="609480" y="4724280"/>
              <a:ext cx="5315040" cy="1490760"/>
            </a:xfrm>
            <a:prstGeom prst="roundRect">
              <a:avLst>
                <a:gd name="adj" fmla="val 106"/>
              </a:avLst>
            </a:prstGeom>
            <a:noFill/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9080" y="4724280"/>
              <a:ext cx="5459040" cy="127368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NB!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Masinates X ja Y on</a:t>
              </a: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 elektroonikatük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(võrgukaart)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mis on traadi küljes ja suudab mõõ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inget traadis ja sinna ise pinget peale and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rogrammid 1 ja 2 juhivad/kuulavad võrgukaar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kaardi draiveriprogrammi abi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TP ühendused: failide küsimine ja nende and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on omaette protokol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kasutatakse veebilehtede, piltide, tekstifailide, zip failide jne jne saatmiseks veebiserveri ja brauseri vahe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26" name=""/>
          <p:cNvSpPr/>
          <p:nvPr/>
        </p:nvSpPr>
        <p:spPr>
          <a:xfrm>
            <a:off x="1353960" y="2498760"/>
            <a:ext cx="1905120" cy="1600200"/>
          </a:xfrm>
          <a:prstGeom prst="roundRect">
            <a:avLst>
              <a:gd name="adj" fmla="val 9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6934320" y="4114800"/>
            <a:ext cx="1600200" cy="1905120"/>
            <a:chOff x="6934320" y="4114800"/>
            <a:chExt cx="1600200" cy="1905120"/>
          </a:xfrm>
        </p:grpSpPr>
        <p:sp>
          <p:nvSpPr>
            <p:cNvPr id="928" name=""/>
            <p:cNvSpPr/>
            <p:nvPr/>
          </p:nvSpPr>
          <p:spPr>
            <a:xfrm>
              <a:off x="6934320" y="4114800"/>
              <a:ext cx="1600200" cy="1905120"/>
            </a:xfrm>
            <a:custGeom>
              <a:avLst/>
              <a:gdLst>
                <a:gd name="textAreaLeft" fmla="*/ 360 w 1600200"/>
                <a:gd name="textAreaRight" fmla="*/ 1599840 w 1600200"/>
                <a:gd name="textAreaTop" fmla="*/ 360 h 1905120"/>
                <a:gd name="textAreaBottom" fmla="*/ 1904760 h 1905120"/>
              </a:gdLst>
              <a:ahLst/>
              <a:rect l="textAreaLeft" t="textAreaTop" r="textAreaRight" b="textAreaBottom"/>
              <a:pathLst>
                <a:path w="21600" h="25715">
                  <a:moveTo>
                    <a:pt x="21" y="0"/>
                  </a:moveTo>
                  <a:arcTo wR="21" hR="21" stAng="16200000" swAng="-5400000"/>
                  <a:lnTo>
                    <a:pt x="0" y="25694"/>
                  </a:lnTo>
                  <a:arcTo wR="21" hR="21" stAng="10800000" swAng="-5400000"/>
                  <a:lnTo>
                    <a:pt x="21579" y="25715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934320" y="4114800"/>
              <a:ext cx="1600200" cy="1905120"/>
            </a:xfrm>
            <a:custGeom>
              <a:avLst/>
              <a:gdLst>
                <a:gd name="textAreaLeft" fmla="*/ 360 w 1600200"/>
                <a:gd name="textAreaRight" fmla="*/ 1599840 w 1600200"/>
                <a:gd name="textAreaTop" fmla="*/ 360 h 1905120"/>
                <a:gd name="textAreaBottom" fmla="*/ 1904760 h 1905120"/>
              </a:gdLst>
              <a:ahLst/>
              <a:rect l="textAreaLeft" t="textAreaTop" r="textAreaRight" b="textAreaBottom"/>
              <a:pathLst>
                <a:path w="21600" h="25715">
                  <a:moveTo>
                    <a:pt x="21" y="0"/>
                  </a:moveTo>
                  <a:arcTo wR="21" hR="21" stAng="16200000" swAng="-5400000"/>
                  <a:lnTo>
                    <a:pt x="0" y="25694"/>
                  </a:lnTo>
                  <a:arcTo wR="21" hR="21" stAng="10800000" swAng="-5400000"/>
                  <a:lnTo>
                    <a:pt x="21579" y="25715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(braus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üsib fa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1429920" y="2754360"/>
            <a:ext cx="189432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 ann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leh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fa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 flipV="1">
            <a:off x="3348000" y="2585520"/>
            <a:ext cx="3286080" cy="13813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833000" y="2514600"/>
            <a:ext cx="4104360" cy="62676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päring üle 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orti (tüüpiliselt 8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471760" y="4572000"/>
            <a:ext cx="411948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vastus üle 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di porti (mis port, s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 klient TCP se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352680" y="3429000"/>
            <a:ext cx="3200400" cy="1295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pär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4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päring on sisuliselt tekstiline käsk serverile: 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na mulle selline fail”, kus näidatakse ä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ne küsimus-käs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 asukoht ja nim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tokoll, mida küsija kasuta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soovi korral lisainfot, nagu küsija programmi tüüp (Mozilla, Ie, Konqueror, ..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äit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tame telnet ühenduse masina deepthought.ttu.ee porti 80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ipime sisse, seejärel tipime kaks reavahetus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ET /it/index.html HTTP/1.0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vastus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ei ole ehitatud “biti või baidi” tasemel, vaid teksti ridade kaupa: päis, tühi rida, tekstire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e: Thu, 06 Nov 2003 13:50:07 GM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rver: Apache/1.3.19 (Unix) PHP/4.1.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ast-Modified: Sat, 10 Apr 1999 09:29:18 GM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Tag: "46d8-297-370f19ee"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ccept-Ranges: byt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Length: 663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nection: clo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META HTTP-EQUIV="Content-type" CONTENT="text/html; charset=ISO-8859-1"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.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1905120"/>
            <a:ext cx="228600" cy="2361960"/>
          </a:xfrm>
          <a:custGeom>
            <a:avLst/>
            <a:gdLst/>
            <a:ahLst/>
            <a:rect l="l" t="t" r="r" b="b"/>
            <a:pathLst>
              <a:path w="636" h="6562">
                <a:moveTo>
                  <a:pt x="635" y="0"/>
                </a:moveTo>
                <a:cubicBezTo>
                  <a:pt x="476" y="0"/>
                  <a:pt x="317" y="273"/>
                  <a:pt x="317" y="546"/>
                </a:cubicBezTo>
                <a:lnTo>
                  <a:pt x="317" y="2734"/>
                </a:lnTo>
                <a:cubicBezTo>
                  <a:pt x="317" y="3007"/>
                  <a:pt x="158" y="3280"/>
                  <a:pt x="0" y="3280"/>
                </a:cubicBezTo>
                <a:cubicBezTo>
                  <a:pt x="158" y="3280"/>
                  <a:pt x="317" y="3554"/>
                  <a:pt x="317" y="3827"/>
                </a:cubicBezTo>
                <a:lnTo>
                  <a:pt x="317" y="6015"/>
                </a:lnTo>
                <a:cubicBezTo>
                  <a:pt x="317" y="6288"/>
                  <a:pt x="476" y="6561"/>
                  <a:pt x="635" y="6561"/>
                </a:cubicBezTo>
              </a:path>
            </a:pathLst>
          </a:cu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63800" y="2514600"/>
            <a:ext cx="350640" cy="1557720"/>
          </a:xfrm>
          <a:custGeom>
            <a:avLst/>
            <a:gdLst>
              <a:gd name="textAreaLeft" fmla="*/ 360 w 350640"/>
              <a:gd name="textAreaRight" fmla="*/ 350280 w 350640"/>
              <a:gd name="textAreaTop" fmla="*/ 360 h 1557720"/>
              <a:gd name="textAreaBottom" fmla="*/ 1557360 h 1557720"/>
            </a:gdLst>
            <a:ahLst/>
            <a:rect l="textAreaLeft" t="textAreaTop" r="textAreaRight" b="textAreaBottom"/>
            <a:pathLst>
              <a:path w="21600" h="95882">
                <a:moveTo>
                  <a:pt x="97" y="0"/>
                </a:moveTo>
                <a:arcTo wR="97" hR="97" stAng="16200000" swAng="-5400000"/>
                <a:lnTo>
                  <a:pt x="0" y="95785"/>
                </a:lnTo>
                <a:arcTo wR="97" hR="97" stAng="10800000" swAng="-5400000"/>
                <a:lnTo>
                  <a:pt x="21503" y="95882"/>
                </a:lnTo>
                <a:arcTo wR="97" hR="97" stAng="5400000" swAng="-5400000"/>
                <a:lnTo>
                  <a:pt x="21600" y="97"/>
                </a:lnTo>
                <a:arcTo wR="97" hR="9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380880" y="4719600"/>
            <a:ext cx="457200" cy="542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77120" y="5181480"/>
            <a:ext cx="689040" cy="826200"/>
          </a:xfrm>
          <a:custGeom>
            <a:avLst/>
            <a:gdLst>
              <a:gd name="textAreaLeft" fmla="*/ 360 w 689040"/>
              <a:gd name="textAreaRight" fmla="*/ 688680 w 689040"/>
              <a:gd name="textAreaTop" fmla="*/ 360 h 826200"/>
              <a:gd name="textAreaBottom" fmla="*/ 825840 h 826200"/>
            </a:gdLst>
            <a:ahLst/>
            <a:rect l="textAreaLeft" t="textAreaTop" r="textAreaRight" b="textAreaBottom"/>
            <a:pathLst>
              <a:path w="21600" h="25897">
                <a:moveTo>
                  <a:pt x="49" y="0"/>
                </a:moveTo>
                <a:arcTo wR="49" hR="49" stAng="16200000" swAng="-5400000"/>
                <a:lnTo>
                  <a:pt x="0" y="25848"/>
                </a:lnTo>
                <a:arcTo wR="49" hR="49" stAng="10800000" swAng="-5400000"/>
                <a:lnTo>
                  <a:pt x="21551" y="25897"/>
                </a:lnTo>
                <a:arcTo wR="49" hR="49" stAng="5400000" swAng="-5400000"/>
                <a:lnTo>
                  <a:pt x="21600" y="49"/>
                </a:lnTo>
                <a:arcTo wR="49" hR="4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ü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001000" y="4952880"/>
            <a:ext cx="609480" cy="1371600"/>
          </a:xfrm>
          <a:custGeom>
            <a:avLst/>
            <a:gdLst/>
            <a:ahLst/>
            <a:rect l="l" t="t" r="r" b="b"/>
            <a:pathLst>
              <a:path w="1695" h="3812">
                <a:moveTo>
                  <a:pt x="0" y="0"/>
                </a:moveTo>
                <a:cubicBezTo>
                  <a:pt x="423" y="0"/>
                  <a:pt x="847" y="158"/>
                  <a:pt x="847" y="317"/>
                </a:cubicBezTo>
                <a:lnTo>
                  <a:pt x="847" y="1587"/>
                </a:lnTo>
                <a:cubicBezTo>
                  <a:pt x="847" y="1746"/>
                  <a:pt x="1270" y="1905"/>
                  <a:pt x="1694" y="1905"/>
                </a:cubicBezTo>
                <a:cubicBezTo>
                  <a:pt x="1270" y="1905"/>
                  <a:pt x="847" y="2064"/>
                  <a:pt x="847" y="2223"/>
                </a:cubicBezTo>
                <a:lnTo>
                  <a:pt x="847" y="3493"/>
                </a:lnTo>
                <a:cubicBezTo>
                  <a:pt x="847" y="3652"/>
                  <a:pt x="423" y="3811"/>
                  <a:pt x="0" y="3811"/>
                </a:cubicBezTo>
              </a:path>
            </a:pathLst>
          </a:cu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8018280" y="4114800"/>
            <a:ext cx="1161360" cy="8262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ge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dasi HTTP suunas: DNS: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Domain Name Server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50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lesanne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ui programmile on antud masina nimi, millega ühendust võtta (näiteks,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www.cnn.co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, siis tuleb kõigepealt leida sellenimelise masina IP aadres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NS server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serverid, mis sisaldavad “nimi&lt;-&gt;IP aadress” tabeleid ja vastavad päringutele “anna selle nime IP aadress”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na DNS päring tuleb teha iga hariliku www-päringu jaoks, siis neid päringuid tehakse maailmas tohutult palju (rohkem kui mistahes muid infopäringuid). Üks masin või kanal ei pea seda vastu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endus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ajutatud andmeb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DNS servereid on maailmas väga palju. Igaüks saab üles panna oma DNS serveri. DNS serverid süngivad omavahel infot oma tabelite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"/>
          <p:cNvGrpSpPr/>
          <p:nvPr/>
        </p:nvGrpSpPr>
        <p:grpSpPr>
          <a:xfrm>
            <a:off x="5276880" y="1066680"/>
            <a:ext cx="3173400" cy="5181840"/>
            <a:chOff x="5276880" y="1066680"/>
            <a:chExt cx="3173400" cy="5181840"/>
          </a:xfrm>
        </p:grpSpPr>
        <p:sp>
          <p:nvSpPr>
            <p:cNvPr id="948" name=""/>
            <p:cNvSpPr/>
            <p:nvPr/>
          </p:nvSpPr>
          <p:spPr>
            <a:xfrm>
              <a:off x="5276880" y="2971800"/>
              <a:ext cx="3173400" cy="3276720"/>
            </a:xfrm>
            <a:custGeom>
              <a:avLst/>
              <a:gdLst/>
              <a:ahLst/>
              <a:rect l="l" t="t" r="r" b="b"/>
              <a:pathLst>
                <a:path w="8813" h="9103">
                  <a:moveTo>
                    <a:pt x="1157" y="0"/>
                  </a:moveTo>
                  <a:lnTo>
                    <a:pt x="0" y="1554"/>
                  </a:lnTo>
                  <a:lnTo>
                    <a:pt x="926" y="3329"/>
                  </a:lnTo>
                  <a:lnTo>
                    <a:pt x="1157" y="5327"/>
                  </a:lnTo>
                  <a:lnTo>
                    <a:pt x="926" y="6437"/>
                  </a:lnTo>
                  <a:lnTo>
                    <a:pt x="463" y="7325"/>
                  </a:lnTo>
                  <a:lnTo>
                    <a:pt x="463" y="8213"/>
                  </a:lnTo>
                  <a:lnTo>
                    <a:pt x="2083" y="9102"/>
                  </a:lnTo>
                  <a:lnTo>
                    <a:pt x="3935" y="8879"/>
                  </a:lnTo>
                  <a:lnTo>
                    <a:pt x="5787" y="7991"/>
                  </a:lnTo>
                  <a:cubicBezTo>
                    <a:pt x="6096" y="7917"/>
                    <a:pt x="6419" y="7885"/>
                    <a:pt x="6713" y="7769"/>
                  </a:cubicBezTo>
                  <a:cubicBezTo>
                    <a:pt x="6762" y="7751"/>
                    <a:pt x="6713" y="7668"/>
                    <a:pt x="6737" y="7626"/>
                  </a:cubicBezTo>
                  <a:cubicBezTo>
                    <a:pt x="6819" y="7487"/>
                    <a:pt x="7022" y="7237"/>
                    <a:pt x="7157" y="7117"/>
                  </a:cubicBezTo>
                  <a:cubicBezTo>
                    <a:pt x="7244" y="6867"/>
                    <a:pt x="7162" y="6932"/>
                    <a:pt x="7311" y="6858"/>
                  </a:cubicBezTo>
                  <a:lnTo>
                    <a:pt x="8334" y="5549"/>
                  </a:lnTo>
                  <a:lnTo>
                    <a:pt x="8797" y="4439"/>
                  </a:lnTo>
                  <a:cubicBezTo>
                    <a:pt x="8768" y="3856"/>
                    <a:pt x="8812" y="3824"/>
                    <a:pt x="8643" y="3426"/>
                  </a:cubicBezTo>
                  <a:cubicBezTo>
                    <a:pt x="8614" y="3357"/>
                    <a:pt x="8599" y="3278"/>
                    <a:pt x="8566" y="3209"/>
                  </a:cubicBezTo>
                  <a:cubicBezTo>
                    <a:pt x="8527" y="3130"/>
                    <a:pt x="8416" y="2991"/>
                    <a:pt x="8416" y="2991"/>
                  </a:cubicBezTo>
                  <a:lnTo>
                    <a:pt x="6250" y="888"/>
                  </a:lnTo>
                  <a:lnTo>
                    <a:pt x="4166" y="444"/>
                  </a:lnTo>
                  <a:lnTo>
                    <a:pt x="3009" y="222"/>
                  </a:lnTo>
                  <a:lnTo>
                    <a:pt x="1620" y="0"/>
                  </a:lnTo>
                  <a:lnTo>
                    <a:pt x="1157" y="0"/>
                  </a:lnTo>
                  <a:lnTo>
                    <a:pt x="1157" y="0"/>
                  </a:lnTo>
                </a:path>
              </a:pathLst>
            </a:custGeom>
            <a:solidFill>
              <a:srgbClr val="00cc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80960" y="1066680"/>
              <a:ext cx="1278720" cy="44928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dom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6821280" y="1447920"/>
              <a:ext cx="50292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684840" y="3124080"/>
            <a:ext cx="2214720" cy="1752840"/>
            <a:chOff x="6684840" y="3124080"/>
            <a:chExt cx="2214720" cy="1752840"/>
          </a:xfrm>
        </p:grpSpPr>
        <p:sp>
          <p:nvSpPr>
            <p:cNvPr id="952" name=""/>
            <p:cNvSpPr/>
            <p:nvPr/>
          </p:nvSpPr>
          <p:spPr>
            <a:xfrm>
              <a:off x="6684840" y="3886200"/>
              <a:ext cx="1266840" cy="990720"/>
            </a:xfrm>
            <a:custGeom>
              <a:avLst/>
              <a:gdLst/>
              <a:ahLst/>
              <a:rect l="l" t="t" r="r" b="b"/>
              <a:pathLst>
                <a:path w="3520" h="2753">
                  <a:moveTo>
                    <a:pt x="977" y="211"/>
                  </a:moveTo>
                  <a:lnTo>
                    <a:pt x="0" y="1057"/>
                  </a:lnTo>
                  <a:lnTo>
                    <a:pt x="195" y="1904"/>
                  </a:lnTo>
                  <a:lnTo>
                    <a:pt x="391" y="2116"/>
                  </a:lnTo>
                  <a:lnTo>
                    <a:pt x="586" y="2328"/>
                  </a:lnTo>
                  <a:lnTo>
                    <a:pt x="1563" y="2540"/>
                  </a:lnTo>
                  <a:lnTo>
                    <a:pt x="2150" y="2752"/>
                  </a:lnTo>
                  <a:lnTo>
                    <a:pt x="2737" y="2540"/>
                  </a:lnTo>
                  <a:lnTo>
                    <a:pt x="3127" y="2540"/>
                  </a:lnTo>
                  <a:lnTo>
                    <a:pt x="3323" y="2116"/>
                  </a:lnTo>
                  <a:lnTo>
                    <a:pt x="3519" y="1269"/>
                  </a:lnTo>
                  <a:lnTo>
                    <a:pt x="3127" y="634"/>
                  </a:lnTo>
                  <a:lnTo>
                    <a:pt x="2932" y="211"/>
                  </a:lnTo>
                  <a:lnTo>
                    <a:pt x="2150" y="0"/>
                  </a:lnTo>
                  <a:lnTo>
                    <a:pt x="1563" y="0"/>
                  </a:lnTo>
                  <a:lnTo>
                    <a:pt x="977" y="211"/>
                  </a:lnTo>
                  <a:lnTo>
                    <a:pt x="977" y="211"/>
                  </a:lnTo>
                </a:path>
              </a:pathLst>
            </a:cu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986600" y="3124080"/>
              <a:ext cx="912960" cy="44928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z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7594560" y="3581280"/>
              <a:ext cx="712800" cy="60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 DNS  tre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953000" y="2590920"/>
            <a:ext cx="1850400" cy="993600"/>
            <a:chOff x="1953000" y="2590920"/>
            <a:chExt cx="1850400" cy="993600"/>
          </a:xfrm>
        </p:grpSpPr>
        <p:sp>
          <p:nvSpPr>
            <p:cNvPr id="957" name=""/>
            <p:cNvSpPr/>
            <p:nvPr/>
          </p:nvSpPr>
          <p:spPr>
            <a:xfrm flipH="1">
              <a:off x="2949120" y="2590920"/>
              <a:ext cx="8542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53000" y="3124080"/>
              <a:ext cx="153792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oney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3583800" y="2590920"/>
            <a:ext cx="1216080" cy="1146240"/>
            <a:chOff x="3583800" y="2590920"/>
            <a:chExt cx="1216080" cy="1146240"/>
          </a:xfrm>
        </p:grpSpPr>
        <p:sp>
          <p:nvSpPr>
            <p:cNvPr id="960" name=""/>
            <p:cNvSpPr/>
            <p:nvPr/>
          </p:nvSpPr>
          <p:spPr>
            <a:xfrm>
              <a:off x="3798720" y="2590920"/>
              <a:ext cx="352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583800" y="3276720"/>
              <a:ext cx="12160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kids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03840" y="3581280"/>
            <a:ext cx="2373840" cy="841680"/>
            <a:chOff x="303840" y="3581280"/>
            <a:chExt cx="2373840" cy="841680"/>
          </a:xfrm>
        </p:grpSpPr>
        <p:sp>
          <p:nvSpPr>
            <p:cNvPr id="963" name=""/>
            <p:cNvSpPr/>
            <p:nvPr/>
          </p:nvSpPr>
          <p:spPr>
            <a:xfrm flipH="1">
              <a:off x="1612440" y="3581280"/>
              <a:ext cx="10652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03840" y="3962520"/>
              <a:ext cx="21564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orp.money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5" name=""/>
          <p:cNvSpPr/>
          <p:nvPr/>
        </p:nvSpPr>
        <p:spPr>
          <a:xfrm flipH="1">
            <a:off x="698400" y="4495680"/>
            <a:ext cx="4320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1195560" y="4419720"/>
            <a:ext cx="3498120" cy="1527120"/>
            <a:chOff x="1195560" y="4419720"/>
            <a:chExt cx="3498120" cy="1527120"/>
          </a:xfrm>
        </p:grpSpPr>
        <p:sp>
          <p:nvSpPr>
            <p:cNvPr id="967" name=""/>
            <p:cNvSpPr/>
            <p:nvPr/>
          </p:nvSpPr>
          <p:spPr>
            <a:xfrm>
              <a:off x="1612080" y="5486400"/>
              <a:ext cx="30816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arket.corp.money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195560" y="4419720"/>
              <a:ext cx="56340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1266840" y="4419720"/>
            <a:ext cx="3727800" cy="993600"/>
            <a:chOff x="1266840" y="4419720"/>
            <a:chExt cx="3727800" cy="993600"/>
          </a:xfrm>
        </p:grpSpPr>
        <p:sp>
          <p:nvSpPr>
            <p:cNvPr id="970" name=""/>
            <p:cNvSpPr/>
            <p:nvPr/>
          </p:nvSpPr>
          <p:spPr>
            <a:xfrm>
              <a:off x="1963440" y="4952880"/>
              <a:ext cx="30312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ilbert.corp.money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266840" y="4419720"/>
              <a:ext cx="9144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2034720" y="5943600"/>
            <a:ext cx="216360" cy="304920"/>
            <a:chOff x="2034720" y="5943600"/>
            <a:chExt cx="216360" cy="304920"/>
          </a:xfrm>
        </p:grpSpPr>
        <p:sp>
          <p:nvSpPr>
            <p:cNvPr id="973" name=""/>
            <p:cNvSpPr/>
            <p:nvPr/>
          </p:nvSpPr>
          <p:spPr>
            <a:xfrm flipH="1">
              <a:off x="2034720" y="5943600"/>
              <a:ext cx="795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109960" y="5943600"/>
              <a:ext cx="14112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5838120" y="3581280"/>
            <a:ext cx="1521000" cy="1603440"/>
            <a:chOff x="5838120" y="3581280"/>
            <a:chExt cx="1521000" cy="1603440"/>
          </a:xfrm>
        </p:grpSpPr>
        <p:sp>
          <p:nvSpPr>
            <p:cNvPr id="976" name=""/>
            <p:cNvSpPr/>
            <p:nvPr/>
          </p:nvSpPr>
          <p:spPr>
            <a:xfrm>
              <a:off x="5981760" y="3581280"/>
              <a:ext cx="35244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38120" y="4724280"/>
              <a:ext cx="15210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nix.os.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5557680" y="3505320"/>
            <a:ext cx="1758960" cy="2064600"/>
            <a:chOff x="5557680" y="3505320"/>
            <a:chExt cx="1758960" cy="2064600"/>
          </a:xfrm>
        </p:grpSpPr>
        <p:sp>
          <p:nvSpPr>
            <p:cNvPr id="979" name=""/>
            <p:cNvSpPr/>
            <p:nvPr/>
          </p:nvSpPr>
          <p:spPr>
            <a:xfrm flipH="1">
              <a:off x="5834160" y="3505320"/>
              <a:ext cx="79200" cy="167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557680" y="5110200"/>
              <a:ext cx="17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ac.os.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6051600" y="3505320"/>
            <a:ext cx="1859040" cy="1146240"/>
            <a:chOff x="6051600" y="3505320"/>
            <a:chExt cx="1859040" cy="1146240"/>
          </a:xfrm>
        </p:grpSpPr>
        <p:sp>
          <p:nvSpPr>
            <p:cNvPr id="982" name=""/>
            <p:cNvSpPr/>
            <p:nvPr/>
          </p:nvSpPr>
          <p:spPr>
            <a:xfrm>
              <a:off x="6694560" y="4191120"/>
              <a:ext cx="12160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t.os.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051600" y="3505320"/>
              <a:ext cx="11952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3798720" y="2590920"/>
            <a:ext cx="2672280" cy="917640"/>
            <a:chOff x="3798720" y="2590920"/>
            <a:chExt cx="2672280" cy="917640"/>
          </a:xfrm>
        </p:grpSpPr>
        <p:sp>
          <p:nvSpPr>
            <p:cNvPr id="985" name=""/>
            <p:cNvSpPr/>
            <p:nvPr/>
          </p:nvSpPr>
          <p:spPr>
            <a:xfrm>
              <a:off x="3798720" y="2590920"/>
              <a:ext cx="20415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492520" y="3048120"/>
              <a:ext cx="9784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s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3563640" y="1523880"/>
            <a:ext cx="1014840" cy="1070280"/>
            <a:chOff x="3563640" y="1523880"/>
            <a:chExt cx="1014840" cy="1070280"/>
          </a:xfrm>
        </p:grpSpPr>
        <p:sp>
          <p:nvSpPr>
            <p:cNvPr id="988" name=""/>
            <p:cNvSpPr/>
            <p:nvPr/>
          </p:nvSpPr>
          <p:spPr>
            <a:xfrm>
              <a:off x="3563640" y="2133720"/>
              <a:ext cx="6310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3935520" y="1523880"/>
              <a:ext cx="6429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4573440" y="1523880"/>
            <a:ext cx="1668960" cy="1070280"/>
            <a:chOff x="4573440" y="1523880"/>
            <a:chExt cx="1668960" cy="1070280"/>
          </a:xfrm>
        </p:grpSpPr>
        <p:sp>
          <p:nvSpPr>
            <p:cNvPr id="991" name=""/>
            <p:cNvSpPr/>
            <p:nvPr/>
          </p:nvSpPr>
          <p:spPr>
            <a:xfrm>
              <a:off x="5459040" y="2133720"/>
              <a:ext cx="78336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o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573440" y="1523880"/>
              <a:ext cx="12668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6191280" y="2362320"/>
            <a:ext cx="1407960" cy="533160"/>
            <a:chOff x="6191280" y="2362320"/>
            <a:chExt cx="1407960" cy="533160"/>
          </a:xfrm>
        </p:grpSpPr>
        <p:sp>
          <p:nvSpPr>
            <p:cNvPr id="994" name=""/>
            <p:cNvSpPr/>
            <p:nvPr/>
          </p:nvSpPr>
          <p:spPr>
            <a:xfrm>
              <a:off x="6191280" y="2362320"/>
              <a:ext cx="1407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191280" y="2438280"/>
              <a:ext cx="1266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3429360" y="3733920"/>
            <a:ext cx="2293560" cy="1222200"/>
            <a:chOff x="3429360" y="3733920"/>
            <a:chExt cx="2293560" cy="1222200"/>
          </a:xfrm>
        </p:grpSpPr>
        <p:sp>
          <p:nvSpPr>
            <p:cNvPr id="997" name=""/>
            <p:cNvSpPr/>
            <p:nvPr/>
          </p:nvSpPr>
          <p:spPr>
            <a:xfrm>
              <a:off x="3429360" y="4495680"/>
              <a:ext cx="229356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arnick.kids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81320" y="3733920"/>
              <a:ext cx="4921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2659320" y="3733920"/>
            <a:ext cx="1749600" cy="841320"/>
            <a:chOff x="2659320" y="3733920"/>
            <a:chExt cx="1749600" cy="841320"/>
          </a:xfrm>
        </p:grpSpPr>
        <p:sp>
          <p:nvSpPr>
            <p:cNvPr id="1000" name=""/>
            <p:cNvSpPr/>
            <p:nvPr/>
          </p:nvSpPr>
          <p:spPr>
            <a:xfrm>
              <a:off x="2659320" y="4114800"/>
              <a:ext cx="17496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op.kids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3654360" y="3733920"/>
              <a:ext cx="4320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4424760" y="1066680"/>
            <a:ext cx="257760" cy="460440"/>
          </a:xfrm>
          <a:custGeom>
            <a:avLst/>
            <a:gdLst>
              <a:gd name="textAreaLeft" fmla="*/ 360 w 257760"/>
              <a:gd name="textAreaRight" fmla="*/ 257400 w 25776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38561">
                <a:moveTo>
                  <a:pt x="142" y="0"/>
                </a:moveTo>
                <a:arcTo wR="142" hR="142" stAng="16200000" swAng="-5400000"/>
                <a:lnTo>
                  <a:pt x="0" y="38419"/>
                </a:lnTo>
                <a:arcTo wR="142" hR="142" stAng="10800000" swAng="-5400000"/>
                <a:lnTo>
                  <a:pt x="21458" y="38561"/>
                </a:lnTo>
                <a:arcTo wR="142" hR="142" stAng="5400000" swAng="-5400000"/>
                <a:lnTo>
                  <a:pt x="21600" y="142"/>
                </a:lnTo>
                <a:arcTo wR="142" hR="14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 fill="hold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 fill="hold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NS: Process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56920" y="1541160"/>
            <a:ext cx="3848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6200" indent="-3762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Host xyz.iitb.ernet.in wants IP address of www.ibm.com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6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6200" indent="-3762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ntacts its local DNS server, dns.iitb.ernet.i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6200" indent="-3762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ns.iitb.ernet.in contacts root name server, if necessary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6200" indent="-3762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oot name server sends the the authoritative name server address to local name server if necessary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6200" indent="-3762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cal name server asks the authoritative name server dns.ibm.com for the IP address of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www.ibm.com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and gets it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6200" indent="-3762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cal name server sends the IP address to the host xyz.itb.ernet.i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6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05" name=""/>
          <p:cNvSpPr/>
          <p:nvPr/>
        </p:nvSpPr>
        <p:spPr>
          <a:xfrm>
            <a:off x="4195800" y="4648320"/>
            <a:ext cx="2253960" cy="33048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xyz.iitb.ernet.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708600" y="4844880"/>
            <a:ext cx="1522440" cy="33048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ww.ib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5265720" y="2570040"/>
            <a:ext cx="374400" cy="657360"/>
            <a:chOff x="5265720" y="2570040"/>
            <a:chExt cx="374400" cy="657360"/>
          </a:xfrm>
        </p:grpSpPr>
        <p:sp>
          <p:nvSpPr>
            <p:cNvPr id="1008" name=""/>
            <p:cNvSpPr/>
            <p:nvPr/>
          </p:nvSpPr>
          <p:spPr>
            <a:xfrm>
              <a:off x="5265720" y="3075120"/>
              <a:ext cx="370080" cy="152280"/>
            </a:xfrm>
            <a:custGeom>
              <a:avLst/>
              <a:gdLst/>
              <a:ahLst/>
              <a:rect l="l" t="t" r="r" b="b"/>
              <a:pathLst>
                <a:path w="1029" h="424">
                  <a:moveTo>
                    <a:pt x="397" y="0"/>
                  </a:moveTo>
                  <a:lnTo>
                    <a:pt x="1028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7" y="0"/>
                  </a:lnTo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452920" y="2575080"/>
              <a:ext cx="169920" cy="504720"/>
            </a:xfrm>
            <a:custGeom>
              <a:avLst/>
              <a:gdLst>
                <a:gd name="textAreaLeft" fmla="*/ 360 w 169920"/>
                <a:gd name="textAreaRight" fmla="*/ 169560 w 169920"/>
                <a:gd name="textAreaTop" fmla="*/ 360 h 504720"/>
                <a:gd name="textAreaBottom" fmla="*/ 504360 h 504720"/>
              </a:gdLst>
              <a:ahLst/>
              <a:rect l="textAreaLeft" t="textAreaTop" r="textAreaRight" b="textAreaBottom"/>
              <a:pathLst>
                <a:path w="21600" h="64069">
                  <a:moveTo>
                    <a:pt x="203" y="0"/>
                  </a:moveTo>
                  <a:arcTo wR="203" hR="203" stAng="16200000" swAng="-5400000"/>
                  <a:lnTo>
                    <a:pt x="0" y="63866"/>
                  </a:lnTo>
                  <a:arcTo wR="203" hR="203" stAng="10800000" swAng="-5400000"/>
                  <a:lnTo>
                    <a:pt x="21397" y="64069"/>
                  </a:lnTo>
                  <a:arcTo wR="203" hR="203" stAng="5400000" swAng="-5400000"/>
                  <a:lnTo>
                    <a:pt x="21600" y="203"/>
                  </a:lnTo>
                  <a:arcTo wR="203" hR="203" stAng="0" swAng="-5400000"/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67160" y="2717640"/>
              <a:ext cx="235080" cy="505080"/>
            </a:xfrm>
            <a:custGeom>
              <a:avLst/>
              <a:gdLst>
                <a:gd name="textAreaLeft" fmla="*/ 360 w 235080"/>
                <a:gd name="textAreaRight" fmla="*/ 234720 w 235080"/>
                <a:gd name="textAreaTop" fmla="*/ 360 h 505080"/>
                <a:gd name="textAreaBottom" fmla="*/ 504720 h 505080"/>
              </a:gdLst>
              <a:ahLst/>
              <a:rect l="textAreaLeft" t="textAreaTop" r="textAreaRight" b="textAreaBottom"/>
              <a:pathLst>
                <a:path w="21600" h="46371">
                  <a:moveTo>
                    <a:pt x="145" y="0"/>
                  </a:moveTo>
                  <a:arcTo wR="145" hR="145" stAng="16200000" swAng="-5400000"/>
                  <a:lnTo>
                    <a:pt x="0" y="46226"/>
                  </a:lnTo>
                  <a:arcTo wR="145" hR="145" stAng="10800000" swAng="-5400000"/>
                  <a:lnTo>
                    <a:pt x="21455" y="463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65720" y="2570040"/>
              <a:ext cx="370080" cy="152640"/>
            </a:xfrm>
            <a:custGeom>
              <a:avLst/>
              <a:gdLst/>
              <a:ahLst/>
              <a:rect l="l" t="t" r="r" b="b"/>
              <a:pathLst>
                <a:path w="1029" h="424">
                  <a:moveTo>
                    <a:pt x="397" y="0"/>
                  </a:moveTo>
                  <a:lnTo>
                    <a:pt x="1028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7" y="0"/>
                  </a:lnTo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635800" y="2581200"/>
              <a:ext cx="1440" cy="49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5497200" y="3075120"/>
              <a:ext cx="14292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97400" y="2784600"/>
              <a:ext cx="155520" cy="291960"/>
            </a:xfrm>
            <a:custGeom>
              <a:avLst/>
              <a:gdLst>
                <a:gd name="textAreaLeft" fmla="*/ 360 w 155520"/>
                <a:gd name="textAreaRight" fmla="*/ 155160 w 155520"/>
                <a:gd name="textAreaTop" fmla="*/ 360 h 291960"/>
                <a:gd name="textAreaBottom" fmla="*/ 291600 h 291960"/>
              </a:gdLst>
              <a:ahLst/>
              <a:rect l="textAreaLeft" t="textAreaTop" r="textAreaRight" b="textAreaBottom"/>
              <a:pathLst>
                <a:path w="21600" h="40506">
                  <a:moveTo>
                    <a:pt x="220" y="0"/>
                  </a:moveTo>
                  <a:arcTo wR="220" hR="220" stAng="16200000" swAng="-5400000"/>
                  <a:lnTo>
                    <a:pt x="0" y="40286"/>
                  </a:lnTo>
                  <a:arcTo wR="220" hR="220" stAng="10800000" swAng="-5400000"/>
                  <a:lnTo>
                    <a:pt x="21380" y="40506"/>
                  </a:lnTo>
                  <a:arcTo wR="220" hR="220" stAng="5400000" swAng="-5400000"/>
                  <a:lnTo>
                    <a:pt x="21600" y="220"/>
                  </a:lnTo>
                  <a:arcTo wR="220" hR="22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19720" y="2871720"/>
              <a:ext cx="119160" cy="103320"/>
            </a:xfrm>
            <a:prstGeom prst="roundRect">
              <a:avLst>
                <a:gd name="adj" fmla="val 1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5791320" y="736560"/>
            <a:ext cx="201132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oot n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518160" y="3408480"/>
            <a:ext cx="2653200" cy="57384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uthoritative nam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ns.ib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5315040" y="3252600"/>
            <a:ext cx="1440" cy="1323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5429160" y="1557000"/>
            <a:ext cx="914400" cy="981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734160" y="1743120"/>
            <a:ext cx="561960" cy="799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 flipV="1">
            <a:off x="6815160" y="1566720"/>
            <a:ext cx="657360" cy="943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5614920" y="1771560"/>
            <a:ext cx="74304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505480" y="3286080"/>
            <a:ext cx="936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4316400" y="3384720"/>
            <a:ext cx="2253960" cy="604080"/>
            <a:chOff x="4316400" y="3384720"/>
            <a:chExt cx="2253960" cy="604080"/>
          </a:xfrm>
        </p:grpSpPr>
        <p:sp>
          <p:nvSpPr>
            <p:cNvPr id="1025" name=""/>
            <p:cNvSpPr/>
            <p:nvPr/>
          </p:nvSpPr>
          <p:spPr>
            <a:xfrm>
              <a:off x="4505400" y="3457440"/>
              <a:ext cx="1876320" cy="476280"/>
            </a:xfrm>
            <a:prstGeom prst="roundRect">
              <a:avLst>
                <a:gd name="adj" fmla="val 33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316400" y="3384720"/>
              <a:ext cx="2253960" cy="604080"/>
            </a:xfrm>
            <a:prstGeom prst="roundRect">
              <a:avLst>
                <a:gd name="adj" fmla="val 25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local name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dns.iitb.ernet.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5028480" y="411336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571360" y="177948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714360" y="202716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095600" y="177948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942880" y="210348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562000" y="415116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6380280" y="1150920"/>
            <a:ext cx="374040" cy="657360"/>
            <a:chOff x="6380280" y="1150920"/>
            <a:chExt cx="374040" cy="657360"/>
          </a:xfrm>
        </p:grpSpPr>
        <p:sp>
          <p:nvSpPr>
            <p:cNvPr id="1034" name=""/>
            <p:cNvSpPr/>
            <p:nvPr/>
          </p:nvSpPr>
          <p:spPr>
            <a:xfrm>
              <a:off x="6380280" y="1655640"/>
              <a:ext cx="369720" cy="152640"/>
            </a:xfrm>
            <a:custGeom>
              <a:avLst/>
              <a:gdLst/>
              <a:ahLst/>
              <a:rect l="l" t="t" r="r" b="b"/>
              <a:pathLst>
                <a:path w="1028" h="424">
                  <a:moveTo>
                    <a:pt x="396" y="0"/>
                  </a:moveTo>
                  <a:lnTo>
                    <a:pt x="1027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6" y="0"/>
                  </a:lnTo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67480" y="1155600"/>
              <a:ext cx="169920" cy="505080"/>
            </a:xfrm>
            <a:custGeom>
              <a:avLst/>
              <a:gdLst>
                <a:gd name="textAreaLeft" fmla="*/ 360 w 169920"/>
                <a:gd name="textAreaRight" fmla="*/ 169560 w 169920"/>
                <a:gd name="textAreaTop" fmla="*/ 360 h 505080"/>
                <a:gd name="textAreaBottom" fmla="*/ 504720 h 505080"/>
              </a:gdLst>
              <a:ahLst/>
              <a:rect l="textAreaLeft" t="textAreaTop" r="textAreaRight" b="textAreaBottom"/>
              <a:pathLst>
                <a:path w="21600" h="64115">
                  <a:moveTo>
                    <a:pt x="203" y="0"/>
                  </a:moveTo>
                  <a:arcTo wR="203" hR="203" stAng="16200000" swAng="-5400000"/>
                  <a:lnTo>
                    <a:pt x="0" y="63912"/>
                  </a:lnTo>
                  <a:arcTo wR="203" hR="203" stAng="10800000" swAng="-5400000"/>
                  <a:lnTo>
                    <a:pt x="21397" y="64115"/>
                  </a:lnTo>
                  <a:arcTo wR="203" hR="203" stAng="5400000" swAng="-5400000"/>
                  <a:lnTo>
                    <a:pt x="21600" y="203"/>
                  </a:lnTo>
                  <a:arcTo wR="203" hR="203" stAng="0" swAng="-5400000"/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381720" y="1298520"/>
              <a:ext cx="235080" cy="504720"/>
            </a:xfrm>
            <a:custGeom>
              <a:avLst/>
              <a:gdLst>
                <a:gd name="textAreaLeft" fmla="*/ 360 w 235080"/>
                <a:gd name="textAreaRight" fmla="*/ 234720 w 235080"/>
                <a:gd name="textAreaTop" fmla="*/ 360 h 504720"/>
                <a:gd name="textAreaBottom" fmla="*/ 504360 h 504720"/>
              </a:gdLst>
              <a:ahLst/>
              <a:rect l="textAreaLeft" t="textAreaTop" r="textAreaRight" b="textAreaBottom"/>
              <a:pathLst>
                <a:path w="21600" h="46338">
                  <a:moveTo>
                    <a:pt x="145" y="0"/>
                  </a:moveTo>
                  <a:arcTo wR="145" hR="145" stAng="16200000" swAng="-5400000"/>
                  <a:lnTo>
                    <a:pt x="0" y="46193"/>
                  </a:lnTo>
                  <a:arcTo wR="145" hR="145" stAng="10800000" swAng="-5400000"/>
                  <a:lnTo>
                    <a:pt x="21455" y="46338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380280" y="1150920"/>
              <a:ext cx="369720" cy="152280"/>
            </a:xfrm>
            <a:custGeom>
              <a:avLst/>
              <a:gdLst/>
              <a:ahLst/>
              <a:rect l="l" t="t" r="r" b="b"/>
              <a:pathLst>
                <a:path w="1028" h="424">
                  <a:moveTo>
                    <a:pt x="396" y="0"/>
                  </a:moveTo>
                  <a:lnTo>
                    <a:pt x="1027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6" y="0"/>
                  </a:lnTo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750000" y="1162080"/>
              <a:ext cx="180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6611400" y="1655640"/>
              <a:ext cx="14292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411960" y="1365120"/>
              <a:ext cx="155520" cy="292320"/>
            </a:xfrm>
            <a:custGeom>
              <a:avLst/>
              <a:gdLst>
                <a:gd name="textAreaLeft" fmla="*/ 360 w 155520"/>
                <a:gd name="textAreaRight" fmla="*/ 155160 w 155520"/>
                <a:gd name="textAreaTop" fmla="*/ 360 h 292320"/>
                <a:gd name="textAreaBottom" fmla="*/ 291960 h 292320"/>
              </a:gdLst>
              <a:ahLst/>
              <a:rect l="textAreaLeft" t="textAreaTop" r="textAreaRight" b="textAreaBottom"/>
              <a:pathLst>
                <a:path w="21600" h="40556">
                  <a:moveTo>
                    <a:pt x="220" y="0"/>
                  </a:moveTo>
                  <a:arcTo wR="220" hR="220" stAng="16200000" swAng="-5400000"/>
                  <a:lnTo>
                    <a:pt x="0" y="40336"/>
                  </a:lnTo>
                  <a:arcTo wR="220" hR="220" stAng="10800000" swAng="-5400000"/>
                  <a:lnTo>
                    <a:pt x="21380" y="40556"/>
                  </a:lnTo>
                  <a:arcTo wR="220" hR="220" stAng="5400000" swAng="-5400000"/>
                  <a:lnTo>
                    <a:pt x="21600" y="220"/>
                  </a:lnTo>
                  <a:arcTo wR="220" hR="22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434280" y="1452600"/>
              <a:ext cx="118800" cy="103320"/>
            </a:xfrm>
            <a:prstGeom prst="roundRect">
              <a:avLst>
                <a:gd name="adj" fmla="val 1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7209000" y="2579760"/>
            <a:ext cx="374040" cy="657000"/>
            <a:chOff x="7209000" y="2579760"/>
            <a:chExt cx="374040" cy="657000"/>
          </a:xfrm>
        </p:grpSpPr>
        <p:sp>
          <p:nvSpPr>
            <p:cNvPr id="1043" name=""/>
            <p:cNvSpPr/>
            <p:nvPr/>
          </p:nvSpPr>
          <p:spPr>
            <a:xfrm>
              <a:off x="7209000" y="3084480"/>
              <a:ext cx="369720" cy="152280"/>
            </a:xfrm>
            <a:custGeom>
              <a:avLst/>
              <a:gdLst/>
              <a:ahLst/>
              <a:rect l="l" t="t" r="r" b="b"/>
              <a:pathLst>
                <a:path w="1028" h="424">
                  <a:moveTo>
                    <a:pt x="396" y="0"/>
                  </a:moveTo>
                  <a:lnTo>
                    <a:pt x="1027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6" y="0"/>
                  </a:lnTo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396200" y="2584440"/>
              <a:ext cx="169920" cy="504720"/>
            </a:xfrm>
            <a:custGeom>
              <a:avLst/>
              <a:gdLst>
                <a:gd name="textAreaLeft" fmla="*/ 360 w 169920"/>
                <a:gd name="textAreaRight" fmla="*/ 169560 w 169920"/>
                <a:gd name="textAreaTop" fmla="*/ 360 h 504720"/>
                <a:gd name="textAreaBottom" fmla="*/ 504360 h 504720"/>
              </a:gdLst>
              <a:ahLst/>
              <a:rect l="textAreaLeft" t="textAreaTop" r="textAreaRight" b="textAreaBottom"/>
              <a:pathLst>
                <a:path w="21600" h="64069">
                  <a:moveTo>
                    <a:pt x="203" y="0"/>
                  </a:moveTo>
                  <a:arcTo wR="203" hR="203" stAng="16200000" swAng="-5400000"/>
                  <a:lnTo>
                    <a:pt x="0" y="63866"/>
                  </a:lnTo>
                  <a:arcTo wR="203" hR="203" stAng="10800000" swAng="-5400000"/>
                  <a:lnTo>
                    <a:pt x="21397" y="64069"/>
                  </a:lnTo>
                  <a:arcTo wR="203" hR="203" stAng="5400000" swAng="-5400000"/>
                  <a:lnTo>
                    <a:pt x="21600" y="203"/>
                  </a:lnTo>
                  <a:arcTo wR="203" hR="203" stAng="0" swAng="-5400000"/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210440" y="2727360"/>
              <a:ext cx="235080" cy="504720"/>
            </a:xfrm>
            <a:custGeom>
              <a:avLst/>
              <a:gdLst>
                <a:gd name="textAreaLeft" fmla="*/ 360 w 235080"/>
                <a:gd name="textAreaRight" fmla="*/ 234720 w 235080"/>
                <a:gd name="textAreaTop" fmla="*/ 360 h 504720"/>
                <a:gd name="textAreaBottom" fmla="*/ 504360 h 504720"/>
              </a:gdLst>
              <a:ahLst/>
              <a:rect l="textAreaLeft" t="textAreaTop" r="textAreaRight" b="textAreaBottom"/>
              <a:pathLst>
                <a:path w="21600" h="46338">
                  <a:moveTo>
                    <a:pt x="145" y="0"/>
                  </a:moveTo>
                  <a:arcTo wR="145" hR="145" stAng="16200000" swAng="-5400000"/>
                  <a:lnTo>
                    <a:pt x="0" y="46193"/>
                  </a:lnTo>
                  <a:arcTo wR="145" hR="145" stAng="10800000" swAng="-5400000"/>
                  <a:lnTo>
                    <a:pt x="21455" y="46338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209000" y="2579760"/>
              <a:ext cx="369720" cy="152280"/>
            </a:xfrm>
            <a:custGeom>
              <a:avLst/>
              <a:gdLst/>
              <a:ahLst/>
              <a:rect l="l" t="t" r="r" b="b"/>
              <a:pathLst>
                <a:path w="1028" h="424">
                  <a:moveTo>
                    <a:pt x="396" y="0"/>
                  </a:moveTo>
                  <a:lnTo>
                    <a:pt x="1027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6" y="0"/>
                  </a:lnTo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578720" y="2590920"/>
              <a:ext cx="144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7440120" y="3084480"/>
              <a:ext cx="14292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240680" y="2793960"/>
              <a:ext cx="155520" cy="290520"/>
            </a:xfrm>
            <a:custGeom>
              <a:avLst/>
              <a:gdLst>
                <a:gd name="textAreaLeft" fmla="*/ 360 w 155520"/>
                <a:gd name="textAreaRight" fmla="*/ 155160 w 155520"/>
                <a:gd name="textAreaTop" fmla="*/ 360 h 290520"/>
                <a:gd name="textAreaBottom" fmla="*/ 290160 h 290520"/>
              </a:gdLst>
              <a:ahLst/>
              <a:rect l="textAreaLeft" t="textAreaTop" r="textAreaRight" b="textAreaBottom"/>
              <a:pathLst>
                <a:path w="21600" h="40307">
                  <a:moveTo>
                    <a:pt x="220" y="0"/>
                  </a:moveTo>
                  <a:arcTo wR="220" hR="220" stAng="16200000" swAng="-5400000"/>
                  <a:lnTo>
                    <a:pt x="0" y="40087"/>
                  </a:lnTo>
                  <a:arcTo wR="220" hR="220" stAng="10800000" swAng="-5400000"/>
                  <a:lnTo>
                    <a:pt x="21380" y="40307"/>
                  </a:lnTo>
                  <a:arcTo wR="220" hR="220" stAng="5400000" swAng="-5400000"/>
                  <a:lnTo>
                    <a:pt x="21600" y="220"/>
                  </a:lnTo>
                  <a:arcTo wR="220" hR="22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262640" y="2881440"/>
              <a:ext cx="119160" cy="102960"/>
            </a:xfrm>
            <a:prstGeom prst="roundRect">
              <a:avLst>
                <a:gd name="adj" fmla="val 1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7391520" y="4038480"/>
            <a:ext cx="9360" cy="790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 näitel (klient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nab välja faile serverarvutist ja veidi lisainfi (HTTP päi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 asub TCP pordil 80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% telnet deepthought.ttu.ee 8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üsitakse nimeserverilt “deepthought.ttu.ee” IP aadres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meserver teeb DNS protokolliga rekursiivse otsingu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nab tulemuse 193.40.254.179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net loob TCP ühendu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erveeritakse kohalik TCP por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etakse serverile TCP ühenduse avamise kuts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näitel (võrk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lnet saadab päringu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TCP paketti sisaldav IP datagramm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.40.254.179 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rsruutimistabelist selgub, et tuleb kasutada vaikimisi marsruutimisreeglit (Näiteks: 192.168.0.1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RP abil tehakse kindlaks selle Etherneti aadres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üldlevi aadressil küsimus 192.168.0.1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akse vastus 00:E0:1E:67:F4:3F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Etherneti kaader aadressil 00:E0:1E:67:F4:3F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odatakse kuni Etherneti võrk on vab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kaader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2.168.0.1-s ja teistes marsruuterites korratakse marsruutimisprotseduur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näitel (server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epthoughti IP kiht annab datagrammi andmeosa edasi TCP kihi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epthoughti TCP kiht annab pordi numbri järgi andmeosa edasi http serveri-programmi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 server-programm  töötleb päringut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 server-programm saadab vastuse ja lõpetab TCP ühendus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rdub protseduur läbi TCP, IP ja Ethernet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tBIOS perekon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aphicFrame>
        <p:nvGraphicFramePr>
          <p:cNvPr id="1060" name=""/>
          <p:cNvGraphicFramePr/>
          <p:nvPr/>
        </p:nvGraphicFramePr>
        <p:xfrm>
          <a:off x="2590920" y="1447920"/>
          <a:ext cx="3970080" cy="46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447920"/>
                    <a:ext cx="397008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funktsioneerimine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 sama, mis eelmisel slaidi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üsimused, mis tahavad vastus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arvuti Y on traadiga ühenduses mitme eri arvutiga (X, Z, U, ...) siis kuidas saata nimelt soovitud arvutisse (meie näites X) oma info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info hulk on väga suur (näiteks 700 MB), kas saaks seda üksikute väiksemate tükkidena saat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kontrollida, kas tükid jõudsid päral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teha, kui mõni tükk kaduma läheb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arvuti X tükid õieti kokku oskab pann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7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tBEU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tBIOS Extended User Interfa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sendab kohtvõrgu liikluses TCP+I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+ Optimiseeritud väikeste kohtvõrkude jao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+ Kiir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+ Hea veakindl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Pole marsruuditav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Palju liiklust üldaadressi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tBIO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tBIOS (Network Basic Input/Output System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imaldab seansi ja datagrammi tüüpi ühend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kub nimeteen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sina nimi kuni 15 tähte, hierarhiat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eetodid nime teisendamiseks IP aadressiks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üsib WINS serverilt (nimede ja IP aadrsside andmebaas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üsimine üldlevi aadressi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MHOSTS ja HOSTS fai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NS päring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k arvuteid võrgus traatipidi koos: etherne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38080" y="604800"/>
            <a:ext cx="7772400" cy="311040"/>
            <a:chOff x="838080" y="604800"/>
            <a:chExt cx="7772400" cy="311040"/>
          </a:xfrm>
        </p:grpSpPr>
        <p:sp>
          <p:nvSpPr>
            <p:cNvPr id="83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8609040" y="6048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438280" y="2971800"/>
            <a:ext cx="300240" cy="304920"/>
            <a:chOff x="2438280" y="2971800"/>
            <a:chExt cx="300240" cy="304920"/>
          </a:xfrm>
        </p:grpSpPr>
        <p:sp>
          <p:nvSpPr>
            <p:cNvPr id="86" name=""/>
            <p:cNvSpPr/>
            <p:nvPr/>
          </p:nvSpPr>
          <p:spPr>
            <a:xfrm>
              <a:off x="2438280" y="29718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38280" y="29718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64000" y="29718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438280" y="1905120"/>
            <a:ext cx="300240" cy="304560"/>
            <a:chOff x="2438280" y="1905120"/>
            <a:chExt cx="300240" cy="304560"/>
          </a:xfrm>
        </p:grpSpPr>
        <p:sp>
          <p:nvSpPr>
            <p:cNvPr id="90" name=""/>
            <p:cNvSpPr/>
            <p:nvPr/>
          </p:nvSpPr>
          <p:spPr>
            <a:xfrm>
              <a:off x="2438280" y="1905120"/>
              <a:ext cx="300240" cy="30456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8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38280" y="190512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4000" y="19051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038480" y="2362320"/>
            <a:ext cx="300240" cy="304560"/>
            <a:chOff x="4038480" y="2362320"/>
            <a:chExt cx="300240" cy="304560"/>
          </a:xfrm>
        </p:grpSpPr>
        <p:sp>
          <p:nvSpPr>
            <p:cNvPr id="94" name=""/>
            <p:cNvSpPr/>
            <p:nvPr/>
          </p:nvSpPr>
          <p:spPr>
            <a:xfrm>
              <a:off x="4038480" y="2362320"/>
              <a:ext cx="300240" cy="30456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8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66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38480" y="236232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6f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64200" y="2362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db57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715000" y="2895480"/>
            <a:ext cx="299880" cy="304920"/>
            <a:chOff x="5715000" y="2895480"/>
            <a:chExt cx="299880" cy="304920"/>
          </a:xfrm>
        </p:grpSpPr>
        <p:sp>
          <p:nvSpPr>
            <p:cNvPr id="98" name=""/>
            <p:cNvSpPr/>
            <p:nvPr/>
          </p:nvSpPr>
          <p:spPr>
            <a:xfrm>
              <a:off x="5715000" y="2895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15000" y="2895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940360" y="2895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962520" y="1295280"/>
            <a:ext cx="299880" cy="304920"/>
            <a:chOff x="3962520" y="1295280"/>
            <a:chExt cx="299880" cy="304920"/>
          </a:xfrm>
        </p:grpSpPr>
        <p:sp>
          <p:nvSpPr>
            <p:cNvPr id="102" name=""/>
            <p:cNvSpPr/>
            <p:nvPr/>
          </p:nvSpPr>
          <p:spPr>
            <a:xfrm>
              <a:off x="3962520" y="1295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62520" y="1295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87880" y="1295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038480" y="3505320"/>
            <a:ext cx="300240" cy="304560"/>
            <a:chOff x="4038480" y="3505320"/>
            <a:chExt cx="300240" cy="304560"/>
          </a:xfrm>
        </p:grpSpPr>
        <p:sp>
          <p:nvSpPr>
            <p:cNvPr id="106" name=""/>
            <p:cNvSpPr/>
            <p:nvPr/>
          </p:nvSpPr>
          <p:spPr>
            <a:xfrm>
              <a:off x="4038480" y="3505320"/>
              <a:ext cx="300240" cy="30456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8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38480" y="350532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6420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110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 flipV="1">
            <a:off x="2743200" y="2509920"/>
            <a:ext cx="1295280" cy="54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172200" y="1519200"/>
            <a:ext cx="1143000" cy="2383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6600" y="1523880"/>
            <a:ext cx="186228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l arvu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kaalne NI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k aa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thernet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C aadr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8 bitine a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343400" y="1899720"/>
            <a:ext cx="1523880" cy="4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91120" y="2661840"/>
            <a:ext cx="144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338720" y="2509920"/>
            <a:ext cx="1457280" cy="54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2738160" y="2052360"/>
            <a:ext cx="130500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191120" y="1595160"/>
            <a:ext cx="1440" cy="77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2666880"/>
            <a:ext cx="1676520" cy="19051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4572000"/>
            <a:ext cx="186192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B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lihtsa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id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arupes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, ühendab kõik kok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3429000"/>
            <a:ext cx="3200400" cy="30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arvuti Y saadab arvutile X teksti, siis ta saadab s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ipid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ÕIGIL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t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rgus, aga teksti juures on öeldud, e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INUL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 (MAC aadress!) peab seda kuulama.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ised ignoreeriv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86280" y="25560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51560" y="12952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4960" y="4772160"/>
            <a:ext cx="272664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B! Korraga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raadil ainult ü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ad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k arvuteid võrgus traatipidi koos: interne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838080" y="604800"/>
            <a:ext cx="7772400" cy="311040"/>
            <a:chOff x="838080" y="604800"/>
            <a:chExt cx="7772400" cy="311040"/>
          </a:xfrm>
        </p:grpSpPr>
        <p:sp>
          <p:nvSpPr>
            <p:cNvPr id="130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8609040" y="6048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133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137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141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145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149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153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157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161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165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 flipV="1">
            <a:off x="3657600" y="2585880"/>
            <a:ext cx="152388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424320" y="3048120"/>
            <a:ext cx="856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410080" y="2052720"/>
            <a:ext cx="687600" cy="46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871520" y="2819520"/>
            <a:ext cx="466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347640" y="3962520"/>
            <a:ext cx="3133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109760" y="3809880"/>
            <a:ext cx="6951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124080" y="3881160"/>
            <a:ext cx="15264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05320" y="3576600"/>
            <a:ext cx="11430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191120" y="4871520"/>
            <a:ext cx="129672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638680" y="3957120"/>
            <a:ext cx="76212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657600" y="1824120"/>
            <a:ext cx="22096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172200" y="1519200"/>
            <a:ext cx="1143000" cy="2383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86600" y="1523880"/>
            <a:ext cx="2057400" cy="57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l arvu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kaalne NI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k aa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ternet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2 bitine a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2 bitti on 4 baiti. IP aa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utatakse enamasti “inimloetavalt” nii (näid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.40.254.1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1295280"/>
            <a:ext cx="2209680" cy="67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ksti küljes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ati IP aadres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võrgus ol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 suunab saadud teksti õiges suunas. Kuida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n “routing tabl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, vaa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 arvutis on n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router”-program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s kuulab traati ja saadab saadud tekstid õiges suunas eda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657600" y="3424320"/>
            <a:ext cx="914400" cy="856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800600" y="2890440"/>
            <a:ext cx="304920" cy="3906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334120" y="1976040"/>
            <a:ext cx="457200" cy="314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438280" y="5562720"/>
            <a:ext cx="4648320" cy="679320"/>
            <a:chOff x="2438280" y="5562720"/>
            <a:chExt cx="4648320" cy="679320"/>
          </a:xfrm>
        </p:grpSpPr>
        <p:sp>
          <p:nvSpPr>
            <p:cNvPr id="194" name=""/>
            <p:cNvSpPr/>
            <p:nvPr/>
          </p:nvSpPr>
          <p:spPr>
            <a:xfrm>
              <a:off x="2438280" y="5562720"/>
              <a:ext cx="4648320" cy="679320"/>
            </a:xfrm>
            <a:prstGeom prst="roundRect">
              <a:avLst>
                <a:gd name="adj" fmla="val 231"/>
              </a:avLst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38280" y="5562720"/>
              <a:ext cx="464832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Osa arvuteid võrgus on “lihtsalt” harilikud arvutid, osa spetsiaalsed “võrgu-ruuterid”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i (IP) kasutamise põhi-ide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64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adress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ga saadetava tekstijupiga pannakse kaasa selle masina aadress, kuhu tekst saata tuleb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440" indent="-334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 on analoogiline hariliku ümbrikug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 on ümbriku sees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mbriku peal on saaja aadress (ja tagaküljel ka saatja aadres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 baiti IP aadressis on nagu aadressi-read: maja, tänav, linn, rii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-arvutid on nagu postkontorid ja sorteerimispunkt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did on nagu veomasinad, mis posti kontorite vahel veava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440" indent="-334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ket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harilikku ümbrikku aga ei mahu terve entsoklüpeedia kümme köidet! Mida teha? Paneme eraldi köited eri ümbrikutesse ja saadame kümme ümbrikku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440" indent="-334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i ka interneti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kad tekstid lõhutakse väiksemateks juppideks (nn pakettideks)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-2782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ketid saadetakse eraldi, igalühel aadress peal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Bitstream Vera San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4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838080" y="376200"/>
            <a:ext cx="7770960" cy="311040"/>
            <a:chOff x="838080" y="376200"/>
            <a:chExt cx="7770960" cy="311040"/>
          </a:xfrm>
        </p:grpSpPr>
        <p:sp>
          <p:nvSpPr>
            <p:cNvPr id="19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8607600" y="3762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838080" y="604800"/>
            <a:ext cx="7772400" cy="311040"/>
            <a:chOff x="838080" y="604800"/>
            <a:chExt cx="7772400" cy="311040"/>
          </a:xfrm>
        </p:grpSpPr>
        <p:sp>
          <p:nvSpPr>
            <p:cNvPr id="204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8609040" y="6048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207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211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215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219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223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227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231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235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239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V="1">
            <a:off x="3657600" y="2585880"/>
            <a:ext cx="152388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424320" y="3048120"/>
            <a:ext cx="856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410080" y="2052720"/>
            <a:ext cx="687600" cy="46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871520" y="2819520"/>
            <a:ext cx="466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347640" y="3962520"/>
            <a:ext cx="3133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109760" y="3809880"/>
            <a:ext cx="6951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124080" y="3881160"/>
            <a:ext cx="15264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505320" y="3576600"/>
            <a:ext cx="11430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191120" y="4871520"/>
            <a:ext cx="129672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638680" y="3957120"/>
            <a:ext cx="76212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657600" y="1824120"/>
            <a:ext cx="22096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219320"/>
            <a:ext cx="220968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tahab saata teksti “Ahoi, ter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näiteks masina M kasu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657600" y="3424320"/>
            <a:ext cx="914400" cy="856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838080" y="604800"/>
            <a:ext cx="7772400" cy="311040"/>
            <a:chOff x="838080" y="604800"/>
            <a:chExt cx="7772400" cy="311040"/>
          </a:xfrm>
        </p:grpSpPr>
        <p:sp>
          <p:nvSpPr>
            <p:cNvPr id="273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8609040" y="60480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276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280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284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288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292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296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300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304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308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 flipV="1">
            <a:off x="3657600" y="2585880"/>
            <a:ext cx="152388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424320" y="3048120"/>
            <a:ext cx="856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5410080" y="2052720"/>
            <a:ext cx="687600" cy="46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871520" y="2819520"/>
            <a:ext cx="466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347640" y="3962520"/>
            <a:ext cx="3133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4109760" y="3809880"/>
            <a:ext cx="6951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124080" y="3881160"/>
            <a:ext cx="15264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505320" y="3576600"/>
            <a:ext cx="11430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191120" y="4871520"/>
            <a:ext cx="129672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638680" y="3957120"/>
            <a:ext cx="76212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657600" y="1824120"/>
            <a:ext cx="22096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1219320"/>
            <a:ext cx="220968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 peab saatma  teksti “Ahoi, ter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näiteks masina E kasu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105520" y="3042720"/>
            <a:ext cx="304560" cy="3906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</dc:title>
</cp:coreProperties>
</file>